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15544800" cy="100584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3E75-892A-4191-99E1-DEC2B938F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79400" y="402840"/>
            <a:ext cx="13986000" cy="16765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ctr">
            <a:noAutofit/>
          </a:bodyPr>
          <a:p>
            <a:pPr indent="0" algn="ctr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9400" y="2347560"/>
            <a:ext cx="13986000" cy="316584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9400" y="5814720"/>
            <a:ext cx="13986000" cy="316584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9FA5-C1BA-48B4-B943-8D1FB1C7E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79400" y="402840"/>
            <a:ext cx="13986000" cy="16765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ctr">
            <a:noAutofit/>
          </a:bodyPr>
          <a:p>
            <a:pPr indent="0" algn="ctr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9400" y="2347560"/>
            <a:ext cx="6824880" cy="316584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945920" y="2347560"/>
            <a:ext cx="6824880" cy="316584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9400" y="5814720"/>
            <a:ext cx="6824880" cy="316584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945920" y="5814720"/>
            <a:ext cx="6824880" cy="316584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93E3-6172-426D-B8E9-8E5D22E98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79400" y="402840"/>
            <a:ext cx="13986000" cy="16765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ctr">
            <a:noAutofit/>
          </a:bodyPr>
          <a:p>
            <a:pPr indent="0" algn="ctr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9400" y="2347560"/>
            <a:ext cx="4503240" cy="316584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508360" y="2347560"/>
            <a:ext cx="4503240" cy="316584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236960" y="2347560"/>
            <a:ext cx="4503240" cy="316584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9400" y="5814720"/>
            <a:ext cx="4503240" cy="316584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508360" y="5814720"/>
            <a:ext cx="4503240" cy="316584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236960" y="5814720"/>
            <a:ext cx="4503240" cy="316584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54E2-FA31-4483-A4B6-E5131996C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79400" y="402840"/>
            <a:ext cx="13986000" cy="16765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ctr">
            <a:noAutofit/>
          </a:bodyPr>
          <a:p>
            <a:pPr indent="0" algn="ctr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779400" y="2347560"/>
            <a:ext cx="13986000" cy="66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79400" y="402840"/>
            <a:ext cx="13986000" cy="16765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ctr">
            <a:noAutofit/>
          </a:bodyPr>
          <a:p>
            <a:pPr indent="0" algn="ctr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779400" y="2347560"/>
            <a:ext cx="13986000" cy="66373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79400" y="402840"/>
            <a:ext cx="13986000" cy="16765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ctr">
            <a:noAutofit/>
          </a:bodyPr>
          <a:p>
            <a:pPr indent="0" algn="ctr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779400" y="2347560"/>
            <a:ext cx="6824880" cy="66373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7945920" y="2347560"/>
            <a:ext cx="6824880" cy="66373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79400" y="402840"/>
            <a:ext cx="13986000" cy="16765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ctr">
            <a:noAutofit/>
          </a:bodyPr>
          <a:p>
            <a:pPr indent="0" algn="ctr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779400" y="402840"/>
            <a:ext cx="139860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79400" y="402840"/>
            <a:ext cx="13986000" cy="16765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ctr">
            <a:noAutofit/>
          </a:bodyPr>
          <a:p>
            <a:pPr indent="0" algn="ctr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779400" y="2347560"/>
            <a:ext cx="6824880" cy="316584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7945920" y="2347560"/>
            <a:ext cx="6824880" cy="66373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779400" y="5814720"/>
            <a:ext cx="6824880" cy="316584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9400" y="402840"/>
            <a:ext cx="13986000" cy="16765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ctr">
            <a:noAutofit/>
          </a:bodyPr>
          <a:p>
            <a:pPr indent="0" algn="ctr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9400" y="2347560"/>
            <a:ext cx="13986000" cy="66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DD04-8961-4D8B-A7B6-18FFCC413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779400" y="402840"/>
            <a:ext cx="13986000" cy="16765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ctr">
            <a:noAutofit/>
          </a:bodyPr>
          <a:p>
            <a:pPr indent="0" algn="ctr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779400" y="2347560"/>
            <a:ext cx="6824880" cy="66373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7945920" y="2347560"/>
            <a:ext cx="6824880" cy="316584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7945920" y="5814720"/>
            <a:ext cx="6824880" cy="316584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79400" y="402840"/>
            <a:ext cx="13986000" cy="16765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ctr">
            <a:noAutofit/>
          </a:bodyPr>
          <a:p>
            <a:pPr indent="0" algn="ctr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779400" y="2347560"/>
            <a:ext cx="6824880" cy="316584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7945920" y="2347560"/>
            <a:ext cx="6824880" cy="316584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779400" y="5814720"/>
            <a:ext cx="13986000" cy="316584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79400" y="402840"/>
            <a:ext cx="13986000" cy="16765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ctr">
            <a:noAutofit/>
          </a:bodyPr>
          <a:p>
            <a:pPr indent="0" algn="ctr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779400" y="2347560"/>
            <a:ext cx="13986000" cy="316584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779400" y="5814720"/>
            <a:ext cx="13986000" cy="316584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79400" y="402840"/>
            <a:ext cx="13986000" cy="16765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ctr">
            <a:noAutofit/>
          </a:bodyPr>
          <a:p>
            <a:pPr indent="0" algn="ctr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779400" y="2347560"/>
            <a:ext cx="6824880" cy="316584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7945920" y="2347560"/>
            <a:ext cx="6824880" cy="316584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779400" y="5814720"/>
            <a:ext cx="6824880" cy="316584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7945920" y="5814720"/>
            <a:ext cx="6824880" cy="316584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79400" y="402840"/>
            <a:ext cx="13986000" cy="16765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ctr">
            <a:noAutofit/>
          </a:bodyPr>
          <a:p>
            <a:pPr indent="0" algn="ctr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779400" y="2347560"/>
            <a:ext cx="4503240" cy="316584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508360" y="2347560"/>
            <a:ext cx="4503240" cy="316584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0236960" y="2347560"/>
            <a:ext cx="4503240" cy="316584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779400" y="5814720"/>
            <a:ext cx="4503240" cy="316584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5508360" y="5814720"/>
            <a:ext cx="4503240" cy="316584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10236960" y="5814720"/>
            <a:ext cx="4503240" cy="316584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79400" y="402840"/>
            <a:ext cx="13986000" cy="16765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ctr">
            <a:noAutofit/>
          </a:bodyPr>
          <a:p>
            <a:pPr indent="0" algn="ctr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779400" y="2347560"/>
            <a:ext cx="13986000" cy="66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79400" y="402840"/>
            <a:ext cx="13986000" cy="16765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ctr">
            <a:noAutofit/>
          </a:bodyPr>
          <a:p>
            <a:pPr indent="0" algn="ctr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779400" y="2347560"/>
            <a:ext cx="13986000" cy="66373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79400" y="402840"/>
            <a:ext cx="13986000" cy="16765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ctr">
            <a:noAutofit/>
          </a:bodyPr>
          <a:p>
            <a:pPr indent="0" algn="ctr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779400" y="2347560"/>
            <a:ext cx="6824880" cy="66373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7945920" y="2347560"/>
            <a:ext cx="6824880" cy="66373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79400" y="402840"/>
            <a:ext cx="13986000" cy="16765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ctr">
            <a:noAutofit/>
          </a:bodyPr>
          <a:p>
            <a:pPr indent="0" algn="ctr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9400" y="402840"/>
            <a:ext cx="13986000" cy="16765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ctr">
            <a:noAutofit/>
          </a:bodyPr>
          <a:p>
            <a:pPr indent="0" algn="ctr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9400" y="2347560"/>
            <a:ext cx="13986000" cy="66373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6F9C-51A3-48BC-9E13-A2C69ED62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779400" y="402840"/>
            <a:ext cx="139860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79400" y="402840"/>
            <a:ext cx="13986000" cy="16765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ctr">
            <a:noAutofit/>
          </a:bodyPr>
          <a:p>
            <a:pPr indent="0" algn="ctr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779400" y="2347560"/>
            <a:ext cx="6824880" cy="316584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7945920" y="2347560"/>
            <a:ext cx="6824880" cy="66373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779400" y="5814720"/>
            <a:ext cx="6824880" cy="316584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79400" y="402840"/>
            <a:ext cx="13986000" cy="16765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ctr">
            <a:noAutofit/>
          </a:bodyPr>
          <a:p>
            <a:pPr indent="0" algn="ctr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79400" y="2347560"/>
            <a:ext cx="6824880" cy="66373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7945920" y="2347560"/>
            <a:ext cx="6824880" cy="316584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7945920" y="5814720"/>
            <a:ext cx="6824880" cy="316584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779400" y="402840"/>
            <a:ext cx="13986000" cy="16765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ctr">
            <a:noAutofit/>
          </a:bodyPr>
          <a:p>
            <a:pPr indent="0" algn="ctr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79400" y="2347560"/>
            <a:ext cx="6824880" cy="316584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7945920" y="2347560"/>
            <a:ext cx="6824880" cy="316584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779400" y="5814720"/>
            <a:ext cx="13986000" cy="316584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79400" y="402840"/>
            <a:ext cx="13986000" cy="16765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ctr">
            <a:noAutofit/>
          </a:bodyPr>
          <a:p>
            <a:pPr indent="0" algn="ctr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79400" y="2347560"/>
            <a:ext cx="13986000" cy="316584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779400" y="5814720"/>
            <a:ext cx="13986000" cy="316584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79400" y="402840"/>
            <a:ext cx="13986000" cy="16765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ctr">
            <a:noAutofit/>
          </a:bodyPr>
          <a:p>
            <a:pPr indent="0" algn="ctr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79400" y="2347560"/>
            <a:ext cx="6824880" cy="316584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7945920" y="2347560"/>
            <a:ext cx="6824880" cy="316584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79400" y="5814720"/>
            <a:ext cx="6824880" cy="316584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7945920" y="5814720"/>
            <a:ext cx="6824880" cy="316584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79400" y="402840"/>
            <a:ext cx="13986000" cy="16765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ctr">
            <a:noAutofit/>
          </a:bodyPr>
          <a:p>
            <a:pPr indent="0" algn="ctr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79400" y="2347560"/>
            <a:ext cx="4503240" cy="316584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508360" y="2347560"/>
            <a:ext cx="4503240" cy="316584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0236960" y="2347560"/>
            <a:ext cx="4503240" cy="316584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779400" y="5814720"/>
            <a:ext cx="4503240" cy="316584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5508360" y="5814720"/>
            <a:ext cx="4503240" cy="316584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10236960" y="5814720"/>
            <a:ext cx="4503240" cy="316584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9400" y="402840"/>
            <a:ext cx="13986000" cy="16765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ctr">
            <a:noAutofit/>
          </a:bodyPr>
          <a:p>
            <a:pPr indent="0" algn="ctr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9400" y="2347560"/>
            <a:ext cx="6824880" cy="66373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945920" y="2347560"/>
            <a:ext cx="6824880" cy="66373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2F35-3533-491D-9CDF-03AC64B95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9400" y="402840"/>
            <a:ext cx="13986000" cy="16765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ctr">
            <a:noAutofit/>
          </a:bodyPr>
          <a:p>
            <a:pPr indent="0" algn="ctr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0BD9-5800-4E70-8EC7-04930965E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79400" y="402840"/>
            <a:ext cx="139860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8040-C7B2-4A25-8415-4E5A71357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9400" y="402840"/>
            <a:ext cx="13986000" cy="16765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ctr">
            <a:noAutofit/>
          </a:bodyPr>
          <a:p>
            <a:pPr indent="0" algn="ctr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9400" y="2347560"/>
            <a:ext cx="6824880" cy="316584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945920" y="2347560"/>
            <a:ext cx="6824880" cy="66373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9400" y="5814720"/>
            <a:ext cx="6824880" cy="316584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BF57-78AF-4E4A-824E-2A194CB2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79400" y="402840"/>
            <a:ext cx="13986000" cy="16765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ctr">
            <a:noAutofit/>
          </a:bodyPr>
          <a:p>
            <a:pPr indent="0" algn="ctr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9400" y="2347560"/>
            <a:ext cx="6824880" cy="66373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945920" y="2347560"/>
            <a:ext cx="6824880" cy="316584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945920" y="5814720"/>
            <a:ext cx="6824880" cy="316584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1027-3CA1-49E2-AE17-1CA33D45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9400" y="402840"/>
            <a:ext cx="13986000" cy="16765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ctr">
            <a:noAutofit/>
          </a:bodyPr>
          <a:p>
            <a:pPr indent="0" algn="ctr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9400" y="2347560"/>
            <a:ext cx="6824880" cy="316584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945920" y="2347560"/>
            <a:ext cx="6824880" cy="316584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9400" y="5814720"/>
            <a:ext cx="13986000" cy="316584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E2C4-F15D-4C42-8C09-95D312F4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9400" y="402840"/>
            <a:ext cx="13986000" cy="16765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ctr">
            <a:noAutofit/>
          </a:bodyPr>
          <a:p>
            <a:pPr indent="0" algn="ctr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9400" y="2347560"/>
            <a:ext cx="13986000" cy="66373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marL="549360" indent="-54936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1187280" indent="-45396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2" marL="1828800" indent="-3668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3" marL="2558880" indent="-3632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4" marL="3290760" indent="-368280"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5" marL="3290760" indent="-368280"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6" marL="3290760" indent="-368280"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9400" y="9159840"/>
            <a:ext cx="3625920" cy="6969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310360" y="9159840"/>
            <a:ext cx="4924080" cy="6969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139480" y="9159840"/>
            <a:ext cx="3625920" cy="6969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2A4B2-03A3-44EC-BFBF-0E03F2469586}" type="slidenum"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47"/>
          <p:cNvSpPr/>
          <p:nvPr/>
        </p:nvSpPr>
        <p:spPr>
          <a:xfrm>
            <a:off x="5326200" y="-33480"/>
            <a:ext cx="4870440" cy="7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5080" bIns="55080" anchor="t">
            <a:spAutoFit/>
          </a:bodyPr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4  Workshe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cern – Cause – Countermeasure – Confir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49"/>
          <p:cNvSpPr/>
          <p:nvPr/>
        </p:nvSpPr>
        <p:spPr>
          <a:xfrm>
            <a:off x="7913520" y="2836800"/>
            <a:ext cx="7475760" cy="304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50"/>
          <p:cNvSpPr/>
          <p:nvPr/>
        </p:nvSpPr>
        <p:spPr>
          <a:xfrm>
            <a:off x="7913520" y="2838600"/>
            <a:ext cx="7475760" cy="274320"/>
          </a:xfrm>
          <a:prstGeom prst="rect">
            <a:avLst/>
          </a:prstGeom>
          <a:solidFill>
            <a:srgbClr val="a6c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untermea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00"/>
          <p:cNvSpPr/>
          <p:nvPr/>
        </p:nvSpPr>
        <p:spPr>
          <a:xfrm>
            <a:off x="9669600" y="2806560"/>
            <a:ext cx="55591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ainstorm countermeasures and evaluate each potential solution, ranking them with 5 being best and 1 being worst.  Assign weights-to evaluation factors according to company prioriti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01"/>
          <p:cNvSpPr/>
          <p:nvPr/>
        </p:nvSpPr>
        <p:spPr>
          <a:xfrm>
            <a:off x="7970760" y="4699080"/>
            <a:ext cx="2495520" cy="7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lected Countermeasure (s)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hort Term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ng Term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02"/>
          <p:cNvSpPr/>
          <p:nvPr/>
        </p:nvSpPr>
        <p:spPr>
          <a:xfrm>
            <a:off x="7970760" y="5391000"/>
            <a:ext cx="20862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lection rational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403"/>
          <p:cNvSpPr/>
          <p:nvPr/>
        </p:nvSpPr>
        <p:spPr>
          <a:xfrm>
            <a:off x="8799480" y="5187960"/>
            <a:ext cx="627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404"/>
          <p:cNvSpPr/>
          <p:nvPr/>
        </p:nvSpPr>
        <p:spPr>
          <a:xfrm>
            <a:off x="9259920" y="5834160"/>
            <a:ext cx="581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405"/>
          <p:cNvSpPr/>
          <p:nvPr/>
        </p:nvSpPr>
        <p:spPr>
          <a:xfrm>
            <a:off x="9259920" y="5654520"/>
            <a:ext cx="581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06"/>
          <p:cNvSpPr/>
          <p:nvPr/>
        </p:nvSpPr>
        <p:spPr>
          <a:xfrm>
            <a:off x="8799480" y="5419800"/>
            <a:ext cx="627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128520" y="4481640"/>
            <a:ext cx="7597800" cy="1347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128520" y="755640"/>
            <a:ext cx="7597800" cy="3656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128520" y="755640"/>
            <a:ext cx="3390840" cy="254160"/>
          </a:xfrm>
          <a:prstGeom prst="rect">
            <a:avLst/>
          </a:prstGeom>
          <a:solidFill>
            <a:srgbClr val="a6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9800" rIns="109800" tIns="55080" bIns="55080" anchor="ctr">
            <a:noAutofit/>
          </a:bodyPr>
          <a:p>
            <a:pPr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cern:  Understand the current si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2"/>
          <p:cNvSpPr/>
          <p:nvPr/>
        </p:nvSpPr>
        <p:spPr>
          <a:xfrm>
            <a:off x="128520" y="4478400"/>
            <a:ext cx="3921120" cy="269640"/>
          </a:xfrm>
          <a:prstGeom prst="rect">
            <a:avLst/>
          </a:prstGeom>
          <a:solidFill>
            <a:srgbClr val="a6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9800" rIns="109800" tIns="55080" bIns="55080" anchor="ctr">
            <a:noAutofit/>
          </a:bodyPr>
          <a:p>
            <a:pPr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cern:  Write your problem stat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146160" y="4745160"/>
            <a:ext cx="401148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at do you want to accomplish? Be concise but as specific as possible. Examples: OEE is consistently low – avg 46% when standard is 67%; Decrease cycle time by 8 seconds by January; How do we get all team members trained on lean systems by the end of the year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80"/>
          <p:cNvSpPr/>
          <p:nvPr/>
        </p:nvSpPr>
        <p:spPr>
          <a:xfrm>
            <a:off x="7913520" y="5996160"/>
            <a:ext cx="7475760" cy="18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181"/>
          <p:cNvGrpSpPr/>
          <p:nvPr/>
        </p:nvGrpSpPr>
        <p:grpSpPr>
          <a:xfrm>
            <a:off x="7913520" y="6281640"/>
            <a:ext cx="7475400" cy="1588680"/>
            <a:chOff x="7913520" y="6281640"/>
            <a:chExt cx="7475400" cy="1588680"/>
          </a:xfrm>
        </p:grpSpPr>
        <p:sp>
          <p:nvSpPr>
            <p:cNvPr id="58" name="Rectangle 182"/>
            <p:cNvSpPr/>
            <p:nvPr/>
          </p:nvSpPr>
          <p:spPr>
            <a:xfrm>
              <a:off x="12712680" y="7673040"/>
              <a:ext cx="27684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83"/>
            <p:cNvSpPr/>
            <p:nvPr/>
          </p:nvSpPr>
          <p:spPr>
            <a:xfrm>
              <a:off x="12712680" y="7473960"/>
              <a:ext cx="2768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84"/>
            <p:cNvSpPr/>
            <p:nvPr/>
          </p:nvSpPr>
          <p:spPr>
            <a:xfrm>
              <a:off x="12712680" y="7276680"/>
              <a:ext cx="27684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85"/>
            <p:cNvSpPr/>
            <p:nvPr/>
          </p:nvSpPr>
          <p:spPr>
            <a:xfrm>
              <a:off x="12712680" y="7076880"/>
              <a:ext cx="276840" cy="1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86"/>
            <p:cNvSpPr/>
            <p:nvPr/>
          </p:nvSpPr>
          <p:spPr>
            <a:xfrm>
              <a:off x="12712680" y="6879600"/>
              <a:ext cx="27684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87"/>
            <p:cNvSpPr/>
            <p:nvPr/>
          </p:nvSpPr>
          <p:spPr>
            <a:xfrm>
              <a:off x="12712680" y="6680520"/>
              <a:ext cx="2768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8"/>
            <p:cNvSpPr/>
            <p:nvPr/>
          </p:nvSpPr>
          <p:spPr>
            <a:xfrm>
              <a:off x="12712680" y="6483240"/>
              <a:ext cx="27684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189"/>
            <p:cNvSpPr/>
            <p:nvPr/>
          </p:nvSpPr>
          <p:spPr>
            <a:xfrm>
              <a:off x="12712680" y="6294600"/>
              <a:ext cx="276840" cy="18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90"/>
            <p:cNvSpPr/>
            <p:nvPr/>
          </p:nvSpPr>
          <p:spPr>
            <a:xfrm>
              <a:off x="12989520" y="7673040"/>
              <a:ext cx="27684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191"/>
            <p:cNvSpPr/>
            <p:nvPr/>
          </p:nvSpPr>
          <p:spPr>
            <a:xfrm>
              <a:off x="12989520" y="7473960"/>
              <a:ext cx="2768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192"/>
            <p:cNvSpPr/>
            <p:nvPr/>
          </p:nvSpPr>
          <p:spPr>
            <a:xfrm>
              <a:off x="12989520" y="7276680"/>
              <a:ext cx="27684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193"/>
            <p:cNvSpPr/>
            <p:nvPr/>
          </p:nvSpPr>
          <p:spPr>
            <a:xfrm>
              <a:off x="12989520" y="7076880"/>
              <a:ext cx="276840" cy="1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94"/>
            <p:cNvSpPr/>
            <p:nvPr/>
          </p:nvSpPr>
          <p:spPr>
            <a:xfrm>
              <a:off x="12989520" y="6879600"/>
              <a:ext cx="27684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95"/>
            <p:cNvSpPr/>
            <p:nvPr/>
          </p:nvSpPr>
          <p:spPr>
            <a:xfrm>
              <a:off x="12989520" y="6680520"/>
              <a:ext cx="2768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196"/>
            <p:cNvSpPr/>
            <p:nvPr/>
          </p:nvSpPr>
          <p:spPr>
            <a:xfrm>
              <a:off x="12989520" y="6483240"/>
              <a:ext cx="27684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97"/>
            <p:cNvSpPr/>
            <p:nvPr/>
          </p:nvSpPr>
          <p:spPr>
            <a:xfrm>
              <a:off x="12989520" y="6294600"/>
              <a:ext cx="276840" cy="18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98"/>
            <p:cNvSpPr/>
            <p:nvPr/>
          </p:nvSpPr>
          <p:spPr>
            <a:xfrm>
              <a:off x="13266360" y="7673040"/>
              <a:ext cx="27684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199"/>
            <p:cNvSpPr/>
            <p:nvPr/>
          </p:nvSpPr>
          <p:spPr>
            <a:xfrm>
              <a:off x="13266360" y="7473960"/>
              <a:ext cx="2768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200"/>
            <p:cNvSpPr/>
            <p:nvPr/>
          </p:nvSpPr>
          <p:spPr>
            <a:xfrm>
              <a:off x="13266360" y="7276680"/>
              <a:ext cx="27684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201"/>
            <p:cNvSpPr/>
            <p:nvPr/>
          </p:nvSpPr>
          <p:spPr>
            <a:xfrm>
              <a:off x="13266360" y="7076880"/>
              <a:ext cx="276840" cy="1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202"/>
            <p:cNvSpPr/>
            <p:nvPr/>
          </p:nvSpPr>
          <p:spPr>
            <a:xfrm>
              <a:off x="13266360" y="6879600"/>
              <a:ext cx="27684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203"/>
            <p:cNvSpPr/>
            <p:nvPr/>
          </p:nvSpPr>
          <p:spPr>
            <a:xfrm>
              <a:off x="13266360" y="6680520"/>
              <a:ext cx="2768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204"/>
            <p:cNvSpPr/>
            <p:nvPr/>
          </p:nvSpPr>
          <p:spPr>
            <a:xfrm>
              <a:off x="13266360" y="6483240"/>
              <a:ext cx="27684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205"/>
            <p:cNvSpPr/>
            <p:nvPr/>
          </p:nvSpPr>
          <p:spPr>
            <a:xfrm>
              <a:off x="13266360" y="6294600"/>
              <a:ext cx="276840" cy="18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206"/>
            <p:cNvSpPr/>
            <p:nvPr/>
          </p:nvSpPr>
          <p:spPr>
            <a:xfrm>
              <a:off x="13543200" y="7673040"/>
              <a:ext cx="27684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207"/>
            <p:cNvSpPr/>
            <p:nvPr/>
          </p:nvSpPr>
          <p:spPr>
            <a:xfrm>
              <a:off x="13543200" y="7473960"/>
              <a:ext cx="2768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208"/>
            <p:cNvSpPr/>
            <p:nvPr/>
          </p:nvSpPr>
          <p:spPr>
            <a:xfrm>
              <a:off x="13543200" y="7276680"/>
              <a:ext cx="27684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209"/>
            <p:cNvSpPr/>
            <p:nvPr/>
          </p:nvSpPr>
          <p:spPr>
            <a:xfrm>
              <a:off x="13543200" y="7076880"/>
              <a:ext cx="276840" cy="1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210"/>
            <p:cNvSpPr/>
            <p:nvPr/>
          </p:nvSpPr>
          <p:spPr>
            <a:xfrm>
              <a:off x="13543200" y="6879600"/>
              <a:ext cx="27684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211"/>
            <p:cNvSpPr/>
            <p:nvPr/>
          </p:nvSpPr>
          <p:spPr>
            <a:xfrm>
              <a:off x="13543200" y="6680520"/>
              <a:ext cx="2768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212"/>
            <p:cNvSpPr/>
            <p:nvPr/>
          </p:nvSpPr>
          <p:spPr>
            <a:xfrm>
              <a:off x="13543200" y="6483240"/>
              <a:ext cx="27684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213"/>
            <p:cNvSpPr/>
            <p:nvPr/>
          </p:nvSpPr>
          <p:spPr>
            <a:xfrm>
              <a:off x="13543200" y="6294600"/>
              <a:ext cx="276840" cy="18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214"/>
            <p:cNvSpPr/>
            <p:nvPr/>
          </p:nvSpPr>
          <p:spPr>
            <a:xfrm>
              <a:off x="13820040" y="7673040"/>
              <a:ext cx="27684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215"/>
            <p:cNvSpPr/>
            <p:nvPr/>
          </p:nvSpPr>
          <p:spPr>
            <a:xfrm>
              <a:off x="13820040" y="7473960"/>
              <a:ext cx="2768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216"/>
            <p:cNvSpPr/>
            <p:nvPr/>
          </p:nvSpPr>
          <p:spPr>
            <a:xfrm>
              <a:off x="13820040" y="7276680"/>
              <a:ext cx="27684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217"/>
            <p:cNvSpPr/>
            <p:nvPr/>
          </p:nvSpPr>
          <p:spPr>
            <a:xfrm>
              <a:off x="13820040" y="7076880"/>
              <a:ext cx="276840" cy="1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218"/>
            <p:cNvSpPr/>
            <p:nvPr/>
          </p:nvSpPr>
          <p:spPr>
            <a:xfrm>
              <a:off x="13820040" y="6879600"/>
              <a:ext cx="27684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219"/>
            <p:cNvSpPr/>
            <p:nvPr/>
          </p:nvSpPr>
          <p:spPr>
            <a:xfrm>
              <a:off x="13820040" y="6680520"/>
              <a:ext cx="2768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220"/>
            <p:cNvSpPr/>
            <p:nvPr/>
          </p:nvSpPr>
          <p:spPr>
            <a:xfrm>
              <a:off x="13820040" y="6483240"/>
              <a:ext cx="27684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221"/>
            <p:cNvSpPr/>
            <p:nvPr/>
          </p:nvSpPr>
          <p:spPr>
            <a:xfrm>
              <a:off x="13820040" y="6294600"/>
              <a:ext cx="276840" cy="18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222"/>
            <p:cNvSpPr/>
            <p:nvPr/>
          </p:nvSpPr>
          <p:spPr>
            <a:xfrm>
              <a:off x="11605320" y="7673040"/>
              <a:ext cx="27684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223"/>
            <p:cNvSpPr/>
            <p:nvPr/>
          </p:nvSpPr>
          <p:spPr>
            <a:xfrm>
              <a:off x="11605320" y="7473960"/>
              <a:ext cx="2768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224"/>
            <p:cNvSpPr/>
            <p:nvPr/>
          </p:nvSpPr>
          <p:spPr>
            <a:xfrm>
              <a:off x="11605320" y="7276680"/>
              <a:ext cx="27684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25"/>
            <p:cNvSpPr/>
            <p:nvPr/>
          </p:nvSpPr>
          <p:spPr>
            <a:xfrm>
              <a:off x="11605320" y="7076880"/>
              <a:ext cx="276840" cy="1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26"/>
            <p:cNvSpPr/>
            <p:nvPr/>
          </p:nvSpPr>
          <p:spPr>
            <a:xfrm>
              <a:off x="11605320" y="6879600"/>
              <a:ext cx="27684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27"/>
            <p:cNvSpPr/>
            <p:nvPr/>
          </p:nvSpPr>
          <p:spPr>
            <a:xfrm>
              <a:off x="11605320" y="6680520"/>
              <a:ext cx="2768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228"/>
            <p:cNvSpPr/>
            <p:nvPr/>
          </p:nvSpPr>
          <p:spPr>
            <a:xfrm>
              <a:off x="11605320" y="6483240"/>
              <a:ext cx="27684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229"/>
            <p:cNvSpPr/>
            <p:nvPr/>
          </p:nvSpPr>
          <p:spPr>
            <a:xfrm>
              <a:off x="11605320" y="6294600"/>
              <a:ext cx="276840" cy="18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230"/>
            <p:cNvSpPr/>
            <p:nvPr/>
          </p:nvSpPr>
          <p:spPr>
            <a:xfrm>
              <a:off x="11882160" y="7673040"/>
              <a:ext cx="27684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231"/>
            <p:cNvSpPr/>
            <p:nvPr/>
          </p:nvSpPr>
          <p:spPr>
            <a:xfrm>
              <a:off x="11882160" y="7473960"/>
              <a:ext cx="2768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232"/>
            <p:cNvSpPr/>
            <p:nvPr/>
          </p:nvSpPr>
          <p:spPr>
            <a:xfrm>
              <a:off x="11882160" y="7276680"/>
              <a:ext cx="27684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233"/>
            <p:cNvSpPr/>
            <p:nvPr/>
          </p:nvSpPr>
          <p:spPr>
            <a:xfrm>
              <a:off x="11882160" y="7076880"/>
              <a:ext cx="276840" cy="1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234"/>
            <p:cNvSpPr/>
            <p:nvPr/>
          </p:nvSpPr>
          <p:spPr>
            <a:xfrm>
              <a:off x="11882160" y="6879600"/>
              <a:ext cx="27684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235"/>
            <p:cNvSpPr/>
            <p:nvPr/>
          </p:nvSpPr>
          <p:spPr>
            <a:xfrm>
              <a:off x="11882160" y="6680520"/>
              <a:ext cx="2768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236"/>
            <p:cNvSpPr/>
            <p:nvPr/>
          </p:nvSpPr>
          <p:spPr>
            <a:xfrm>
              <a:off x="11882160" y="6483240"/>
              <a:ext cx="27684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237"/>
            <p:cNvSpPr/>
            <p:nvPr/>
          </p:nvSpPr>
          <p:spPr>
            <a:xfrm>
              <a:off x="11882160" y="6294600"/>
              <a:ext cx="276840" cy="18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238"/>
            <p:cNvSpPr/>
            <p:nvPr/>
          </p:nvSpPr>
          <p:spPr>
            <a:xfrm>
              <a:off x="12159000" y="7673040"/>
              <a:ext cx="27684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239"/>
            <p:cNvSpPr/>
            <p:nvPr/>
          </p:nvSpPr>
          <p:spPr>
            <a:xfrm>
              <a:off x="12159000" y="7473960"/>
              <a:ext cx="2768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240"/>
            <p:cNvSpPr/>
            <p:nvPr/>
          </p:nvSpPr>
          <p:spPr>
            <a:xfrm>
              <a:off x="12159000" y="7276680"/>
              <a:ext cx="27684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241"/>
            <p:cNvSpPr/>
            <p:nvPr/>
          </p:nvSpPr>
          <p:spPr>
            <a:xfrm>
              <a:off x="12159000" y="7076880"/>
              <a:ext cx="276840" cy="1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42"/>
            <p:cNvSpPr/>
            <p:nvPr/>
          </p:nvSpPr>
          <p:spPr>
            <a:xfrm>
              <a:off x="12159000" y="6879600"/>
              <a:ext cx="27684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43"/>
            <p:cNvSpPr/>
            <p:nvPr/>
          </p:nvSpPr>
          <p:spPr>
            <a:xfrm>
              <a:off x="12159000" y="6680520"/>
              <a:ext cx="2768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244"/>
            <p:cNvSpPr/>
            <p:nvPr/>
          </p:nvSpPr>
          <p:spPr>
            <a:xfrm>
              <a:off x="12159000" y="6483240"/>
              <a:ext cx="27684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45"/>
            <p:cNvSpPr/>
            <p:nvPr/>
          </p:nvSpPr>
          <p:spPr>
            <a:xfrm>
              <a:off x="12159000" y="6294600"/>
              <a:ext cx="276840" cy="18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46"/>
            <p:cNvSpPr/>
            <p:nvPr/>
          </p:nvSpPr>
          <p:spPr>
            <a:xfrm>
              <a:off x="12435840" y="7673040"/>
              <a:ext cx="27684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247"/>
            <p:cNvSpPr/>
            <p:nvPr/>
          </p:nvSpPr>
          <p:spPr>
            <a:xfrm>
              <a:off x="12435840" y="7473960"/>
              <a:ext cx="2768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8"/>
            <p:cNvSpPr/>
            <p:nvPr/>
          </p:nvSpPr>
          <p:spPr>
            <a:xfrm>
              <a:off x="12435840" y="7276680"/>
              <a:ext cx="27684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249"/>
            <p:cNvSpPr/>
            <p:nvPr/>
          </p:nvSpPr>
          <p:spPr>
            <a:xfrm>
              <a:off x="12435840" y="7076880"/>
              <a:ext cx="276840" cy="1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250"/>
            <p:cNvSpPr/>
            <p:nvPr/>
          </p:nvSpPr>
          <p:spPr>
            <a:xfrm>
              <a:off x="12435840" y="6879600"/>
              <a:ext cx="27684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251"/>
            <p:cNvSpPr/>
            <p:nvPr/>
          </p:nvSpPr>
          <p:spPr>
            <a:xfrm>
              <a:off x="12435840" y="6680520"/>
              <a:ext cx="2768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252"/>
            <p:cNvSpPr/>
            <p:nvPr/>
          </p:nvSpPr>
          <p:spPr>
            <a:xfrm>
              <a:off x="12435840" y="6483240"/>
              <a:ext cx="27684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253"/>
            <p:cNvSpPr/>
            <p:nvPr/>
          </p:nvSpPr>
          <p:spPr>
            <a:xfrm>
              <a:off x="12435840" y="6294600"/>
              <a:ext cx="276840" cy="18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254"/>
            <p:cNvSpPr/>
            <p:nvPr/>
          </p:nvSpPr>
          <p:spPr>
            <a:xfrm>
              <a:off x="14650920" y="6879600"/>
              <a:ext cx="73800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255"/>
            <p:cNvSpPr/>
            <p:nvPr/>
          </p:nvSpPr>
          <p:spPr>
            <a:xfrm>
              <a:off x="14374080" y="6879600"/>
              <a:ext cx="27684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56"/>
            <p:cNvSpPr/>
            <p:nvPr/>
          </p:nvSpPr>
          <p:spPr>
            <a:xfrm>
              <a:off x="14097240" y="6879600"/>
              <a:ext cx="27684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57"/>
            <p:cNvSpPr/>
            <p:nvPr/>
          </p:nvSpPr>
          <p:spPr>
            <a:xfrm>
              <a:off x="11328480" y="6879600"/>
              <a:ext cx="27684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258"/>
            <p:cNvSpPr/>
            <p:nvPr/>
          </p:nvSpPr>
          <p:spPr>
            <a:xfrm>
              <a:off x="10036080" y="6879600"/>
              <a:ext cx="129204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259"/>
            <p:cNvSpPr/>
            <p:nvPr/>
          </p:nvSpPr>
          <p:spPr>
            <a:xfrm>
              <a:off x="7913520" y="6879600"/>
              <a:ext cx="212256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260"/>
            <p:cNvSpPr/>
            <p:nvPr/>
          </p:nvSpPr>
          <p:spPr>
            <a:xfrm>
              <a:off x="14650920" y="7076880"/>
              <a:ext cx="738000" cy="1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261"/>
            <p:cNvSpPr/>
            <p:nvPr/>
          </p:nvSpPr>
          <p:spPr>
            <a:xfrm>
              <a:off x="14374080" y="7076880"/>
              <a:ext cx="276840" cy="1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262"/>
            <p:cNvSpPr/>
            <p:nvPr/>
          </p:nvSpPr>
          <p:spPr>
            <a:xfrm>
              <a:off x="14097240" y="7076880"/>
              <a:ext cx="276840" cy="1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263"/>
            <p:cNvSpPr/>
            <p:nvPr/>
          </p:nvSpPr>
          <p:spPr>
            <a:xfrm>
              <a:off x="11328480" y="7076880"/>
              <a:ext cx="276840" cy="1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264"/>
            <p:cNvSpPr/>
            <p:nvPr/>
          </p:nvSpPr>
          <p:spPr>
            <a:xfrm>
              <a:off x="10036080" y="7076880"/>
              <a:ext cx="1292040" cy="1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265"/>
            <p:cNvSpPr/>
            <p:nvPr/>
          </p:nvSpPr>
          <p:spPr>
            <a:xfrm>
              <a:off x="7913520" y="7076880"/>
              <a:ext cx="2122560" cy="1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266"/>
            <p:cNvSpPr/>
            <p:nvPr/>
          </p:nvSpPr>
          <p:spPr>
            <a:xfrm>
              <a:off x="14650920" y="7673040"/>
              <a:ext cx="73800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267"/>
            <p:cNvSpPr/>
            <p:nvPr/>
          </p:nvSpPr>
          <p:spPr>
            <a:xfrm>
              <a:off x="14374080" y="7673040"/>
              <a:ext cx="27684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268"/>
            <p:cNvSpPr/>
            <p:nvPr/>
          </p:nvSpPr>
          <p:spPr>
            <a:xfrm>
              <a:off x="14097240" y="7673040"/>
              <a:ext cx="27684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269"/>
            <p:cNvSpPr/>
            <p:nvPr/>
          </p:nvSpPr>
          <p:spPr>
            <a:xfrm>
              <a:off x="11328480" y="7673040"/>
              <a:ext cx="27684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270"/>
            <p:cNvSpPr/>
            <p:nvPr/>
          </p:nvSpPr>
          <p:spPr>
            <a:xfrm>
              <a:off x="10036080" y="7673040"/>
              <a:ext cx="129204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271"/>
            <p:cNvSpPr/>
            <p:nvPr/>
          </p:nvSpPr>
          <p:spPr>
            <a:xfrm>
              <a:off x="7913520" y="7673040"/>
              <a:ext cx="212256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272"/>
            <p:cNvSpPr/>
            <p:nvPr/>
          </p:nvSpPr>
          <p:spPr>
            <a:xfrm>
              <a:off x="14650920" y="7473960"/>
              <a:ext cx="7380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273"/>
            <p:cNvSpPr/>
            <p:nvPr/>
          </p:nvSpPr>
          <p:spPr>
            <a:xfrm>
              <a:off x="14374080" y="7473960"/>
              <a:ext cx="2768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274"/>
            <p:cNvSpPr/>
            <p:nvPr/>
          </p:nvSpPr>
          <p:spPr>
            <a:xfrm>
              <a:off x="14097240" y="7473960"/>
              <a:ext cx="2768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275"/>
            <p:cNvSpPr/>
            <p:nvPr/>
          </p:nvSpPr>
          <p:spPr>
            <a:xfrm>
              <a:off x="11328480" y="7473960"/>
              <a:ext cx="2768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276"/>
            <p:cNvSpPr/>
            <p:nvPr/>
          </p:nvSpPr>
          <p:spPr>
            <a:xfrm>
              <a:off x="10036080" y="7473960"/>
              <a:ext cx="12920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277"/>
            <p:cNvSpPr/>
            <p:nvPr/>
          </p:nvSpPr>
          <p:spPr>
            <a:xfrm>
              <a:off x="7913520" y="7473960"/>
              <a:ext cx="212256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278"/>
            <p:cNvSpPr/>
            <p:nvPr/>
          </p:nvSpPr>
          <p:spPr>
            <a:xfrm>
              <a:off x="14650920" y="7276680"/>
              <a:ext cx="73800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279"/>
            <p:cNvSpPr/>
            <p:nvPr/>
          </p:nvSpPr>
          <p:spPr>
            <a:xfrm>
              <a:off x="14374080" y="7276680"/>
              <a:ext cx="27684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280"/>
            <p:cNvSpPr/>
            <p:nvPr/>
          </p:nvSpPr>
          <p:spPr>
            <a:xfrm>
              <a:off x="14097240" y="7276680"/>
              <a:ext cx="27684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281"/>
            <p:cNvSpPr/>
            <p:nvPr/>
          </p:nvSpPr>
          <p:spPr>
            <a:xfrm>
              <a:off x="11328480" y="7276680"/>
              <a:ext cx="27684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282"/>
            <p:cNvSpPr/>
            <p:nvPr/>
          </p:nvSpPr>
          <p:spPr>
            <a:xfrm>
              <a:off x="10036080" y="7276680"/>
              <a:ext cx="129204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283"/>
            <p:cNvSpPr/>
            <p:nvPr/>
          </p:nvSpPr>
          <p:spPr>
            <a:xfrm>
              <a:off x="7913520" y="7276680"/>
              <a:ext cx="212256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284"/>
            <p:cNvSpPr/>
            <p:nvPr/>
          </p:nvSpPr>
          <p:spPr>
            <a:xfrm>
              <a:off x="14650920" y="6680520"/>
              <a:ext cx="7380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285"/>
            <p:cNvSpPr/>
            <p:nvPr/>
          </p:nvSpPr>
          <p:spPr>
            <a:xfrm>
              <a:off x="14374080" y="6680520"/>
              <a:ext cx="2768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86"/>
            <p:cNvSpPr/>
            <p:nvPr/>
          </p:nvSpPr>
          <p:spPr>
            <a:xfrm>
              <a:off x="14097240" y="6680520"/>
              <a:ext cx="2768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87"/>
            <p:cNvSpPr/>
            <p:nvPr/>
          </p:nvSpPr>
          <p:spPr>
            <a:xfrm>
              <a:off x="11328480" y="6680520"/>
              <a:ext cx="2768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288"/>
            <p:cNvSpPr/>
            <p:nvPr/>
          </p:nvSpPr>
          <p:spPr>
            <a:xfrm>
              <a:off x="10036080" y="6680520"/>
              <a:ext cx="12920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289"/>
            <p:cNvSpPr/>
            <p:nvPr/>
          </p:nvSpPr>
          <p:spPr>
            <a:xfrm>
              <a:off x="7913520" y="6680520"/>
              <a:ext cx="212256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90"/>
            <p:cNvSpPr/>
            <p:nvPr/>
          </p:nvSpPr>
          <p:spPr>
            <a:xfrm>
              <a:off x="14650920" y="6303960"/>
              <a:ext cx="73800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01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te comple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291"/>
            <p:cNvSpPr/>
            <p:nvPr/>
          </p:nvSpPr>
          <p:spPr>
            <a:xfrm>
              <a:off x="14374080" y="6483240"/>
              <a:ext cx="27684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292"/>
            <p:cNvSpPr/>
            <p:nvPr/>
          </p:nvSpPr>
          <p:spPr>
            <a:xfrm>
              <a:off x="14097240" y="6483240"/>
              <a:ext cx="27684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293"/>
            <p:cNvSpPr/>
            <p:nvPr/>
          </p:nvSpPr>
          <p:spPr>
            <a:xfrm>
              <a:off x="11328480" y="6483240"/>
              <a:ext cx="27684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294"/>
            <p:cNvSpPr/>
            <p:nvPr/>
          </p:nvSpPr>
          <p:spPr>
            <a:xfrm>
              <a:off x="10036080" y="6301800"/>
              <a:ext cx="129204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ho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 responsib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295"/>
            <p:cNvSpPr/>
            <p:nvPr/>
          </p:nvSpPr>
          <p:spPr>
            <a:xfrm>
              <a:off x="7913520" y="6285960"/>
              <a:ext cx="212256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mplementation Step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296"/>
            <p:cNvSpPr/>
            <p:nvPr/>
          </p:nvSpPr>
          <p:spPr>
            <a:xfrm>
              <a:off x="14650920" y="6294600"/>
              <a:ext cx="738000" cy="18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297"/>
            <p:cNvSpPr/>
            <p:nvPr/>
          </p:nvSpPr>
          <p:spPr>
            <a:xfrm>
              <a:off x="14374080" y="6294600"/>
              <a:ext cx="276840" cy="18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298"/>
            <p:cNvSpPr/>
            <p:nvPr/>
          </p:nvSpPr>
          <p:spPr>
            <a:xfrm>
              <a:off x="14097240" y="6294600"/>
              <a:ext cx="276840" cy="18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299"/>
            <p:cNvSpPr/>
            <p:nvPr/>
          </p:nvSpPr>
          <p:spPr>
            <a:xfrm>
              <a:off x="11328480" y="6294600"/>
              <a:ext cx="276840" cy="18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300"/>
            <p:cNvSpPr/>
            <p:nvPr/>
          </p:nvSpPr>
          <p:spPr>
            <a:xfrm>
              <a:off x="10036080" y="6294600"/>
              <a:ext cx="1292040" cy="18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301"/>
            <p:cNvSpPr/>
            <p:nvPr/>
          </p:nvSpPr>
          <p:spPr>
            <a:xfrm>
              <a:off x="7913520" y="6294600"/>
              <a:ext cx="2122560" cy="18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302"/>
            <p:cNvSpPr/>
            <p:nvPr/>
          </p:nvSpPr>
          <p:spPr>
            <a:xfrm>
              <a:off x="7913520" y="6294600"/>
              <a:ext cx="7475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303"/>
            <p:cNvSpPr/>
            <p:nvPr/>
          </p:nvSpPr>
          <p:spPr>
            <a:xfrm>
              <a:off x="7913520" y="6680520"/>
              <a:ext cx="747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304"/>
            <p:cNvSpPr/>
            <p:nvPr/>
          </p:nvSpPr>
          <p:spPr>
            <a:xfrm>
              <a:off x="7913520" y="7276680"/>
              <a:ext cx="747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305"/>
            <p:cNvSpPr/>
            <p:nvPr/>
          </p:nvSpPr>
          <p:spPr>
            <a:xfrm>
              <a:off x="7913520" y="7473960"/>
              <a:ext cx="747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306"/>
            <p:cNvSpPr/>
            <p:nvPr/>
          </p:nvSpPr>
          <p:spPr>
            <a:xfrm>
              <a:off x="7913520" y="7673040"/>
              <a:ext cx="747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307"/>
            <p:cNvSpPr/>
            <p:nvPr/>
          </p:nvSpPr>
          <p:spPr>
            <a:xfrm>
              <a:off x="7913520" y="7870320"/>
              <a:ext cx="7475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308"/>
            <p:cNvSpPr/>
            <p:nvPr/>
          </p:nvSpPr>
          <p:spPr>
            <a:xfrm>
              <a:off x="7913520" y="6294600"/>
              <a:ext cx="0" cy="1575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309"/>
            <p:cNvSpPr/>
            <p:nvPr/>
          </p:nvSpPr>
          <p:spPr>
            <a:xfrm>
              <a:off x="15388920" y="6294600"/>
              <a:ext cx="0" cy="1575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310"/>
            <p:cNvSpPr/>
            <p:nvPr/>
          </p:nvSpPr>
          <p:spPr>
            <a:xfrm>
              <a:off x="7913520" y="7076880"/>
              <a:ext cx="747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311"/>
            <p:cNvSpPr/>
            <p:nvPr/>
          </p:nvSpPr>
          <p:spPr>
            <a:xfrm>
              <a:off x="7913520" y="6879600"/>
              <a:ext cx="747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312"/>
            <p:cNvSpPr/>
            <p:nvPr/>
          </p:nvSpPr>
          <p:spPr>
            <a:xfrm>
              <a:off x="10036080" y="6301800"/>
              <a:ext cx="0" cy="156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313"/>
            <p:cNvSpPr/>
            <p:nvPr/>
          </p:nvSpPr>
          <p:spPr>
            <a:xfrm>
              <a:off x="11328480" y="6303960"/>
              <a:ext cx="0" cy="156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314"/>
            <p:cNvSpPr/>
            <p:nvPr/>
          </p:nvSpPr>
          <p:spPr>
            <a:xfrm>
              <a:off x="11605320" y="6483240"/>
              <a:ext cx="0" cy="138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315"/>
            <p:cNvSpPr/>
            <p:nvPr/>
          </p:nvSpPr>
          <p:spPr>
            <a:xfrm>
              <a:off x="11882160" y="6483240"/>
              <a:ext cx="0" cy="138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316"/>
            <p:cNvSpPr/>
            <p:nvPr/>
          </p:nvSpPr>
          <p:spPr>
            <a:xfrm>
              <a:off x="12159000" y="6483240"/>
              <a:ext cx="0" cy="138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317"/>
            <p:cNvSpPr/>
            <p:nvPr/>
          </p:nvSpPr>
          <p:spPr>
            <a:xfrm>
              <a:off x="12435840" y="6483240"/>
              <a:ext cx="0" cy="138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318"/>
            <p:cNvSpPr/>
            <p:nvPr/>
          </p:nvSpPr>
          <p:spPr>
            <a:xfrm>
              <a:off x="12712680" y="6483240"/>
              <a:ext cx="0" cy="138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319"/>
            <p:cNvSpPr/>
            <p:nvPr/>
          </p:nvSpPr>
          <p:spPr>
            <a:xfrm>
              <a:off x="12989520" y="6483240"/>
              <a:ext cx="0" cy="138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320"/>
            <p:cNvSpPr/>
            <p:nvPr/>
          </p:nvSpPr>
          <p:spPr>
            <a:xfrm>
              <a:off x="13266360" y="6483240"/>
              <a:ext cx="0" cy="138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321"/>
            <p:cNvSpPr/>
            <p:nvPr/>
          </p:nvSpPr>
          <p:spPr>
            <a:xfrm>
              <a:off x="13543200" y="6483240"/>
              <a:ext cx="0" cy="138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322"/>
            <p:cNvSpPr/>
            <p:nvPr/>
          </p:nvSpPr>
          <p:spPr>
            <a:xfrm>
              <a:off x="13820040" y="6483240"/>
              <a:ext cx="0" cy="138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323"/>
            <p:cNvSpPr/>
            <p:nvPr/>
          </p:nvSpPr>
          <p:spPr>
            <a:xfrm>
              <a:off x="14097240" y="6483240"/>
              <a:ext cx="0" cy="138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324"/>
            <p:cNvSpPr/>
            <p:nvPr/>
          </p:nvSpPr>
          <p:spPr>
            <a:xfrm>
              <a:off x="14374080" y="6483240"/>
              <a:ext cx="0" cy="138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325"/>
            <p:cNvSpPr/>
            <p:nvPr/>
          </p:nvSpPr>
          <p:spPr>
            <a:xfrm>
              <a:off x="14650920" y="6301800"/>
              <a:ext cx="0" cy="156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326"/>
            <p:cNvSpPr/>
            <p:nvPr/>
          </p:nvSpPr>
          <p:spPr>
            <a:xfrm>
              <a:off x="7913520" y="6483240"/>
              <a:ext cx="7475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294"/>
            <p:cNvSpPr/>
            <p:nvPr/>
          </p:nvSpPr>
          <p:spPr>
            <a:xfrm>
              <a:off x="11328480" y="6281640"/>
              <a:ext cx="129168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0" bIns="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ilestone dat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Text Box 327"/>
          <p:cNvSpPr/>
          <p:nvPr/>
        </p:nvSpPr>
        <p:spPr>
          <a:xfrm>
            <a:off x="7913520" y="5996160"/>
            <a:ext cx="7475760" cy="311040"/>
          </a:xfrm>
          <a:prstGeom prst="rect">
            <a:avLst/>
          </a:prstGeom>
          <a:solidFill>
            <a:srgbClr val="a6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untermeasure:  Implementation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28"/>
          <p:cNvSpPr/>
          <p:nvPr/>
        </p:nvSpPr>
        <p:spPr>
          <a:xfrm>
            <a:off x="11869560" y="5970600"/>
            <a:ext cx="33451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velop an implementation schedule recording status and results as: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0 = Acceptable; </a:t>
            </a:r>
            <a:r>
              <a:rPr b="0" lang="el-GR" sz="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= Needs improvement; x = Po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42"/>
          <p:cNvSpPr/>
          <p:nvPr/>
        </p:nvSpPr>
        <p:spPr>
          <a:xfrm>
            <a:off x="58680" y="9752040"/>
            <a:ext cx="76471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2013. ILS &amp; David Veech.  All rights reserved. For additional information contact david.veech@theleanwa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128520" y="5938920"/>
            <a:ext cx="7577280" cy="3747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4"/>
          <p:cNvSpPr/>
          <p:nvPr/>
        </p:nvSpPr>
        <p:spPr>
          <a:xfrm>
            <a:off x="128520" y="5938920"/>
            <a:ext cx="7577280" cy="264960"/>
          </a:xfrm>
          <a:prstGeom prst="rect">
            <a:avLst/>
          </a:prstGeom>
          <a:solidFill>
            <a:srgbClr val="a6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9800" rIns="109800" tIns="55080" bIns="55080" anchor="ctr">
            <a:noAutofit/>
          </a:bodyPr>
          <a:p>
            <a:pPr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use: 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5"/>
          <p:cNvSpPr/>
          <p:nvPr/>
        </p:nvSpPr>
        <p:spPr>
          <a:xfrm>
            <a:off x="1468440" y="5884920"/>
            <a:ext cx="6335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5080" bIns="55080" anchor="t">
            <a:spAutoFit/>
          </a:bodyPr>
          <a:p>
            <a:pPr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ainstorm &amp; organize potential causes or obstacles using the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ishbone diagra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em-and-leaf diagra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or other tool.  Write the causes of the problem/obstacles to improvement in the space provided, verifying that what you record is a CAUSE of the problem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39"/>
          <p:cNvSpPr/>
          <p:nvPr/>
        </p:nvSpPr>
        <p:spPr>
          <a:xfrm>
            <a:off x="6581880" y="8888400"/>
            <a:ext cx="108108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nk or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40"/>
          <p:cNvSpPr/>
          <p:nvPr/>
        </p:nvSpPr>
        <p:spPr>
          <a:xfrm>
            <a:off x="5495760" y="8888400"/>
            <a:ext cx="108612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42"/>
          <p:cNvSpPr/>
          <p:nvPr/>
        </p:nvSpPr>
        <p:spPr>
          <a:xfrm>
            <a:off x="4503600" y="8888400"/>
            <a:ext cx="89712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en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43"/>
          <p:cNvSpPr/>
          <p:nvPr/>
        </p:nvSpPr>
        <p:spPr>
          <a:xfrm>
            <a:off x="3295800" y="8888400"/>
            <a:ext cx="120780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o els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45"/>
          <p:cNvSpPr/>
          <p:nvPr/>
        </p:nvSpPr>
        <p:spPr>
          <a:xfrm>
            <a:off x="128520" y="8888400"/>
            <a:ext cx="146520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rIns="0" tIns="0" bIns="0" anchor="ctr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ority Cau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46"/>
          <p:cNvSpPr/>
          <p:nvPr/>
        </p:nvSpPr>
        <p:spPr>
          <a:xfrm>
            <a:off x="128520" y="8888400"/>
            <a:ext cx="75675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54"/>
          <p:cNvSpPr/>
          <p:nvPr/>
        </p:nvSpPr>
        <p:spPr>
          <a:xfrm>
            <a:off x="2036880" y="8891640"/>
            <a:ext cx="0" cy="79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55"/>
          <p:cNvSpPr/>
          <p:nvPr/>
        </p:nvSpPr>
        <p:spPr>
          <a:xfrm>
            <a:off x="3295800" y="8891640"/>
            <a:ext cx="0" cy="79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56"/>
          <p:cNvSpPr/>
          <p:nvPr/>
        </p:nvSpPr>
        <p:spPr>
          <a:xfrm>
            <a:off x="4503600" y="8891640"/>
            <a:ext cx="0" cy="79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58"/>
          <p:cNvSpPr/>
          <p:nvPr/>
        </p:nvSpPr>
        <p:spPr>
          <a:xfrm>
            <a:off x="5495760" y="8888400"/>
            <a:ext cx="0" cy="79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59"/>
          <p:cNvSpPr/>
          <p:nvPr/>
        </p:nvSpPr>
        <p:spPr>
          <a:xfrm>
            <a:off x="6581880" y="8891640"/>
            <a:ext cx="0" cy="79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33"/>
          <p:cNvSpPr/>
          <p:nvPr/>
        </p:nvSpPr>
        <p:spPr>
          <a:xfrm>
            <a:off x="2036880" y="8901000"/>
            <a:ext cx="1258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els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434"/>
          <p:cNvSpPr/>
          <p:nvPr/>
        </p:nvSpPr>
        <p:spPr>
          <a:xfrm>
            <a:off x="128520" y="9072720"/>
            <a:ext cx="75675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435"/>
          <p:cNvSpPr/>
          <p:nvPr/>
        </p:nvSpPr>
        <p:spPr>
          <a:xfrm>
            <a:off x="128520" y="9367920"/>
            <a:ext cx="75675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467"/>
          <p:cNvGrpSpPr/>
          <p:nvPr/>
        </p:nvGrpSpPr>
        <p:grpSpPr>
          <a:xfrm>
            <a:off x="7889760" y="766800"/>
            <a:ext cx="7499160" cy="1934640"/>
            <a:chOff x="7889760" y="766800"/>
            <a:chExt cx="7499160" cy="1934640"/>
          </a:xfrm>
        </p:grpSpPr>
        <p:grpSp>
          <p:nvGrpSpPr>
            <p:cNvPr id="225" name="Group 437"/>
            <p:cNvGrpSpPr/>
            <p:nvPr/>
          </p:nvGrpSpPr>
          <p:grpSpPr>
            <a:xfrm>
              <a:off x="7913520" y="766800"/>
              <a:ext cx="7475400" cy="1934640"/>
              <a:chOff x="7913520" y="766800"/>
              <a:chExt cx="7475400" cy="1934640"/>
            </a:xfrm>
          </p:grpSpPr>
          <p:sp>
            <p:nvSpPr>
              <p:cNvPr id="226" name="Rectangle 102"/>
              <p:cNvSpPr/>
              <p:nvPr/>
            </p:nvSpPr>
            <p:spPr>
              <a:xfrm>
                <a:off x="7913520" y="766800"/>
                <a:ext cx="7475400" cy="1934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Text Box 161"/>
              <p:cNvSpPr/>
              <p:nvPr/>
            </p:nvSpPr>
            <p:spPr>
              <a:xfrm>
                <a:off x="7913520" y="771840"/>
                <a:ext cx="7475400" cy="241560"/>
              </a:xfrm>
              <a:prstGeom prst="rect">
                <a:avLst/>
              </a:prstGeom>
              <a:solidFill>
                <a:srgbClr val="a6c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ause:  5 Why Analysi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Text Box 162"/>
            <p:cNvSpPr/>
            <p:nvPr/>
          </p:nvSpPr>
          <p:spPr>
            <a:xfrm>
              <a:off x="7889760" y="1039680"/>
              <a:ext cx="93672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blem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63"/>
            <p:cNvSpPr/>
            <p:nvPr/>
          </p:nvSpPr>
          <p:spPr>
            <a:xfrm>
              <a:off x="9610560" y="2173320"/>
              <a:ext cx="281160" cy="112680"/>
            </a:xfrm>
            <a:custGeom>
              <a:avLst/>
              <a:gdLst>
                <a:gd name="textAreaLeft" fmla="*/ 0 w 281160"/>
                <a:gd name="textAreaRight" fmla="*/ 281520 w 281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6" h="96">
                  <a:moveTo>
                    <a:pt x="0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164"/>
            <p:cNvSpPr/>
            <p:nvPr/>
          </p:nvSpPr>
          <p:spPr>
            <a:xfrm>
              <a:off x="8023320" y="2441520"/>
              <a:ext cx="726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65"/>
            <p:cNvSpPr/>
            <p:nvPr/>
          </p:nvSpPr>
          <p:spPr>
            <a:xfrm>
              <a:off x="9610560" y="2173320"/>
              <a:ext cx="5432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66"/>
            <p:cNvSpPr/>
            <p:nvPr/>
          </p:nvSpPr>
          <p:spPr>
            <a:xfrm>
              <a:off x="9352080" y="1936800"/>
              <a:ext cx="280800" cy="11124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6" h="96">
                  <a:moveTo>
                    <a:pt x="0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67"/>
            <p:cNvSpPr/>
            <p:nvPr/>
          </p:nvSpPr>
          <p:spPr>
            <a:xfrm>
              <a:off x="9352080" y="1936800"/>
              <a:ext cx="543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68"/>
            <p:cNvSpPr/>
            <p:nvPr/>
          </p:nvSpPr>
          <p:spPr>
            <a:xfrm>
              <a:off x="9093240" y="1701720"/>
              <a:ext cx="280800" cy="10944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96" h="96">
                  <a:moveTo>
                    <a:pt x="0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169"/>
            <p:cNvSpPr/>
            <p:nvPr/>
          </p:nvSpPr>
          <p:spPr>
            <a:xfrm>
              <a:off x="9093240" y="1701720"/>
              <a:ext cx="543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70"/>
            <p:cNvSpPr/>
            <p:nvPr/>
          </p:nvSpPr>
          <p:spPr>
            <a:xfrm>
              <a:off x="8827920" y="1463760"/>
              <a:ext cx="281160" cy="112680"/>
            </a:xfrm>
            <a:custGeom>
              <a:avLst/>
              <a:gdLst>
                <a:gd name="textAreaLeft" fmla="*/ 0 w 281160"/>
                <a:gd name="textAreaRight" fmla="*/ 281520 w 281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6" h="96">
                  <a:moveTo>
                    <a:pt x="0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171"/>
            <p:cNvSpPr/>
            <p:nvPr/>
          </p:nvSpPr>
          <p:spPr>
            <a:xfrm>
              <a:off x="8834400" y="1463760"/>
              <a:ext cx="543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72"/>
            <p:cNvSpPr/>
            <p:nvPr/>
          </p:nvSpPr>
          <p:spPr>
            <a:xfrm>
              <a:off x="8569440" y="1228680"/>
              <a:ext cx="280800" cy="11124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6" h="96">
                  <a:moveTo>
                    <a:pt x="0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73"/>
            <p:cNvSpPr/>
            <p:nvPr/>
          </p:nvSpPr>
          <p:spPr>
            <a:xfrm>
              <a:off x="8569440" y="1228680"/>
              <a:ext cx="543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174"/>
            <p:cNvSpPr/>
            <p:nvPr/>
          </p:nvSpPr>
          <p:spPr>
            <a:xfrm>
              <a:off x="8066160" y="1228680"/>
              <a:ext cx="63000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hy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175"/>
            <p:cNvSpPr/>
            <p:nvPr/>
          </p:nvSpPr>
          <p:spPr>
            <a:xfrm>
              <a:off x="8327880" y="1471680"/>
              <a:ext cx="63180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hy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176"/>
            <p:cNvSpPr/>
            <p:nvPr/>
          </p:nvSpPr>
          <p:spPr>
            <a:xfrm>
              <a:off x="8586720" y="1712880"/>
              <a:ext cx="63180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hy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177"/>
            <p:cNvSpPr/>
            <p:nvPr/>
          </p:nvSpPr>
          <p:spPr>
            <a:xfrm>
              <a:off x="8848800" y="1955880"/>
              <a:ext cx="63180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hy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178"/>
            <p:cNvSpPr/>
            <p:nvPr/>
          </p:nvSpPr>
          <p:spPr>
            <a:xfrm>
              <a:off x="9107640" y="2197080"/>
              <a:ext cx="63180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hy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439"/>
            <p:cNvSpPr/>
            <p:nvPr/>
          </p:nvSpPr>
          <p:spPr>
            <a:xfrm rot="10800000">
              <a:off x="15017760" y="2047680"/>
              <a:ext cx="270000" cy="3934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393480"/>
                <a:gd name="textAreaBottom" fmla="*/ 393840 h 393480"/>
              </a:gdLst>
              <a:ahLst/>
              <a:rect l="textAreaLeft" t="textAreaTop" r="textAreaRight" b="textAreaBottom"/>
              <a:pathLst>
                <a:path w="96" h="96">
                  <a:moveTo>
                    <a:pt x="0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440"/>
            <p:cNvSpPr/>
            <p:nvPr/>
          </p:nvSpPr>
          <p:spPr>
            <a:xfrm rot="10800000">
              <a:off x="14773320" y="1779480"/>
              <a:ext cx="270000" cy="39384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96" h="96">
                  <a:moveTo>
                    <a:pt x="0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441"/>
            <p:cNvSpPr/>
            <p:nvPr/>
          </p:nvSpPr>
          <p:spPr>
            <a:xfrm rot="10800000">
              <a:off x="14520600" y="1535040"/>
              <a:ext cx="269640" cy="39384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96" h="96">
                  <a:moveTo>
                    <a:pt x="0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442"/>
            <p:cNvSpPr/>
            <p:nvPr/>
          </p:nvSpPr>
          <p:spPr>
            <a:xfrm rot="10800000">
              <a:off x="14260320" y="1306440"/>
              <a:ext cx="269640" cy="39384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96" h="96">
                  <a:moveTo>
                    <a:pt x="0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443"/>
            <p:cNvSpPr/>
            <p:nvPr/>
          </p:nvSpPr>
          <p:spPr>
            <a:xfrm rot="10800000">
              <a:off x="14000040" y="1085760"/>
              <a:ext cx="270000" cy="39384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96" h="96">
                  <a:moveTo>
                    <a:pt x="0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444"/>
            <p:cNvSpPr/>
            <p:nvPr/>
          </p:nvSpPr>
          <p:spPr>
            <a:xfrm>
              <a:off x="14336640" y="1085760"/>
              <a:ext cx="86544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herefore…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178"/>
            <p:cNvSpPr/>
            <p:nvPr/>
          </p:nvSpPr>
          <p:spPr>
            <a:xfrm>
              <a:off x="7912080" y="2457360"/>
              <a:ext cx="731664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tement of the root cause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AutoShape 336"/>
          <p:cNvSpPr/>
          <p:nvPr/>
        </p:nvSpPr>
        <p:spPr>
          <a:xfrm>
            <a:off x="15106680" y="2544840"/>
            <a:ext cx="380880" cy="331560"/>
          </a:xfrm>
          <a:prstGeom prst="downArrow">
            <a:avLst>
              <a:gd name="adj1" fmla="val 36667"/>
              <a:gd name="adj2" fmla="val 3540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448"/>
          <p:cNvSpPr/>
          <p:nvPr/>
        </p:nvSpPr>
        <p:spPr>
          <a:xfrm>
            <a:off x="15100200" y="5681520"/>
            <a:ext cx="379440" cy="328680"/>
          </a:xfrm>
          <a:prstGeom prst="downArrow">
            <a:avLst>
              <a:gd name="adj1" fmla="val 36398"/>
              <a:gd name="adj2" fmla="val 405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30"/>
          <p:cNvSpPr/>
          <p:nvPr/>
        </p:nvSpPr>
        <p:spPr>
          <a:xfrm>
            <a:off x="7913520" y="8001000"/>
            <a:ext cx="7475760" cy="168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331"/>
          <p:cNvSpPr/>
          <p:nvPr/>
        </p:nvSpPr>
        <p:spPr>
          <a:xfrm>
            <a:off x="7913520" y="8001000"/>
            <a:ext cx="2883240" cy="247680"/>
          </a:xfrm>
          <a:prstGeom prst="rect">
            <a:avLst/>
          </a:prstGeom>
          <a:solidFill>
            <a:srgbClr val="a6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fi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451"/>
          <p:cNvSpPr/>
          <p:nvPr/>
        </p:nvSpPr>
        <p:spPr>
          <a:xfrm>
            <a:off x="8951760" y="8001000"/>
            <a:ext cx="1845000" cy="247680"/>
          </a:xfrm>
          <a:prstGeom prst="rect">
            <a:avLst/>
          </a:prstGeom>
          <a:solidFill>
            <a:srgbClr val="a6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ndard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452"/>
          <p:cNvSpPr/>
          <p:nvPr/>
        </p:nvSpPr>
        <p:spPr>
          <a:xfrm>
            <a:off x="12976200" y="8001000"/>
            <a:ext cx="2413080" cy="247680"/>
          </a:xfrm>
          <a:prstGeom prst="rect">
            <a:avLst/>
          </a:prstGeom>
          <a:solidFill>
            <a:srgbClr val="a6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flect &amp; Recogn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450"/>
          <p:cNvSpPr/>
          <p:nvPr/>
        </p:nvSpPr>
        <p:spPr>
          <a:xfrm>
            <a:off x="10796760" y="8001000"/>
            <a:ext cx="2179440" cy="247680"/>
          </a:xfrm>
          <a:prstGeom prst="rect">
            <a:avLst/>
          </a:prstGeom>
          <a:solidFill>
            <a:srgbClr val="a6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ck Resul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54"/>
          <p:cNvSpPr/>
          <p:nvPr/>
        </p:nvSpPr>
        <p:spPr>
          <a:xfrm>
            <a:off x="10796760" y="8245440"/>
            <a:ext cx="2179440" cy="139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w long do we need to track results?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umber of req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 sampl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hod for tracking (visual) and location of informat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455"/>
          <p:cNvSpPr/>
          <p:nvPr/>
        </p:nvSpPr>
        <p:spPr>
          <a:xfrm>
            <a:off x="7912080" y="8248680"/>
            <a:ext cx="3079800" cy="8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e standardized work updated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 with before and after pictures for future training.  Identify the location of these files for team member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56"/>
          <p:cNvSpPr/>
          <p:nvPr/>
        </p:nvSpPr>
        <p:spPr>
          <a:xfrm>
            <a:off x="7913520" y="8426520"/>
            <a:ext cx="2883240" cy="1936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57"/>
          <p:cNvSpPr/>
          <p:nvPr/>
        </p:nvSpPr>
        <p:spPr>
          <a:xfrm>
            <a:off x="7913520" y="9137520"/>
            <a:ext cx="2883240" cy="5511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Group 469"/>
          <p:cNvGrpSpPr/>
          <p:nvPr/>
        </p:nvGrpSpPr>
        <p:grpSpPr>
          <a:xfrm>
            <a:off x="13176360" y="8249040"/>
            <a:ext cx="2233440" cy="1419840"/>
            <a:chOff x="13176360" y="8249040"/>
            <a:chExt cx="2233440" cy="1419840"/>
          </a:xfrm>
        </p:grpSpPr>
        <p:grpSp>
          <p:nvGrpSpPr>
            <p:cNvPr id="264" name="Group 409"/>
            <p:cNvGrpSpPr/>
            <p:nvPr/>
          </p:nvGrpSpPr>
          <p:grpSpPr>
            <a:xfrm>
              <a:off x="13742640" y="8421840"/>
              <a:ext cx="1131840" cy="1091880"/>
              <a:chOff x="13742640" y="8421840"/>
              <a:chExt cx="1131840" cy="1091880"/>
            </a:xfrm>
          </p:grpSpPr>
          <p:sp>
            <p:nvSpPr>
              <p:cNvPr id="265" name="AutoShape 410"/>
              <p:cNvSpPr/>
              <p:nvPr/>
            </p:nvSpPr>
            <p:spPr>
              <a:xfrm>
                <a:off x="13784400" y="8479080"/>
                <a:ext cx="1049400" cy="996840"/>
              </a:xfrm>
              <a:prstGeom prst="pentagon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AutoShape 411"/>
              <p:cNvSpPr/>
              <p:nvPr/>
            </p:nvSpPr>
            <p:spPr>
              <a:xfrm>
                <a:off x="14090760" y="8771040"/>
                <a:ext cx="436320" cy="414360"/>
              </a:xfrm>
              <a:prstGeom prst="pentagon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Line 412"/>
              <p:cNvSpPr/>
              <p:nvPr/>
            </p:nvSpPr>
            <p:spPr>
              <a:xfrm>
                <a:off x="14312880" y="8421840"/>
                <a:ext cx="0" cy="560160"/>
              </a:xfrm>
              <a:prstGeom prst="line">
                <a:avLst/>
              </a:prstGeom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Line 413"/>
              <p:cNvSpPr/>
              <p:nvPr/>
            </p:nvSpPr>
            <p:spPr>
              <a:xfrm>
                <a:off x="14312880" y="8982720"/>
                <a:ext cx="339120" cy="530640"/>
              </a:xfrm>
              <a:prstGeom prst="line">
                <a:avLst/>
              </a:prstGeom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Line 414"/>
              <p:cNvSpPr/>
              <p:nvPr/>
            </p:nvSpPr>
            <p:spPr>
              <a:xfrm flipH="1">
                <a:off x="13973760" y="8982360"/>
                <a:ext cx="338400" cy="531360"/>
              </a:xfrm>
              <a:prstGeom prst="line">
                <a:avLst/>
              </a:prstGeom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415"/>
              <p:cNvSpPr/>
              <p:nvPr/>
            </p:nvSpPr>
            <p:spPr>
              <a:xfrm>
                <a:off x="13742640" y="8849520"/>
                <a:ext cx="570240" cy="131760"/>
              </a:xfrm>
              <a:prstGeom prst="line">
                <a:avLst/>
              </a:prstGeom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Line 416"/>
              <p:cNvSpPr/>
              <p:nvPr/>
            </p:nvSpPr>
            <p:spPr>
              <a:xfrm flipH="1">
                <a:off x="14311080" y="8854920"/>
                <a:ext cx="563400" cy="127440"/>
              </a:xfrm>
              <a:prstGeom prst="line">
                <a:avLst/>
              </a:prstGeom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AutoShape 417"/>
              <p:cNvSpPr/>
              <p:nvPr/>
            </p:nvSpPr>
            <p:spPr>
              <a:xfrm>
                <a:off x="14219280" y="8891280"/>
                <a:ext cx="179280" cy="171000"/>
              </a:xfrm>
              <a:prstGeom prst="pentagon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AutoShape 418"/>
              <p:cNvSpPr/>
              <p:nvPr/>
            </p:nvSpPr>
            <p:spPr>
              <a:xfrm>
                <a:off x="13942800" y="8626680"/>
                <a:ext cx="739800" cy="704880"/>
              </a:xfrm>
              <a:prstGeom prst="pentagon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" name="Text Box 458"/>
            <p:cNvSpPr/>
            <p:nvPr/>
          </p:nvSpPr>
          <p:spPr>
            <a:xfrm>
              <a:off x="13953960" y="8249040"/>
              <a:ext cx="719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459"/>
            <p:cNvSpPr/>
            <p:nvPr/>
          </p:nvSpPr>
          <p:spPr>
            <a:xfrm>
              <a:off x="14690880" y="8691840"/>
              <a:ext cx="718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460"/>
            <p:cNvSpPr/>
            <p:nvPr/>
          </p:nvSpPr>
          <p:spPr>
            <a:xfrm>
              <a:off x="14555880" y="9455400"/>
              <a:ext cx="718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amwor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461"/>
            <p:cNvSpPr/>
            <p:nvPr/>
          </p:nvSpPr>
          <p:spPr>
            <a:xfrm>
              <a:off x="13424040" y="9455400"/>
              <a:ext cx="718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ul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462"/>
            <p:cNvSpPr/>
            <p:nvPr/>
          </p:nvSpPr>
          <p:spPr>
            <a:xfrm>
              <a:off x="13176360" y="8570160"/>
              <a:ext cx="7189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eed for more train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AutoShape 449"/>
          <p:cNvSpPr/>
          <p:nvPr/>
        </p:nvSpPr>
        <p:spPr>
          <a:xfrm>
            <a:off x="15092280" y="7705800"/>
            <a:ext cx="379440" cy="328680"/>
          </a:xfrm>
          <a:prstGeom prst="downArrow">
            <a:avLst>
              <a:gd name="adj1" fmla="val 36398"/>
              <a:gd name="adj2" fmla="val 405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32"/>
          <p:cNvSpPr/>
          <p:nvPr/>
        </p:nvSpPr>
        <p:spPr>
          <a:xfrm rot="10800000">
            <a:off x="7522920" y="9162720"/>
            <a:ext cx="438120" cy="506520"/>
          </a:xfrm>
          <a:prstGeom prst="downArrow">
            <a:avLst>
              <a:gd name="adj1" fmla="val 34787"/>
              <a:gd name="adj2" fmla="val 4059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1"/>
          <p:cNvSpPr/>
          <p:nvPr/>
        </p:nvSpPr>
        <p:spPr>
          <a:xfrm>
            <a:off x="158760" y="1009800"/>
            <a:ext cx="2452680" cy="34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o discovered the problem? Gather findings from any previous studies of this problem are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be what is happening to indicate a problem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be the ideal condition.  What standard is involved if any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en does this problem occur? How frequently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at is this problem costing the organization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1"/>
          <p:cNvSpPr/>
          <p:nvPr/>
        </p:nvSpPr>
        <p:spPr>
          <a:xfrm>
            <a:off x="2692440" y="1014480"/>
            <a:ext cx="242100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urrent State Value Stream or Process Map.  Summarize here, and indicate where others can find fully detailed m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1"/>
          <p:cNvSpPr/>
          <p:nvPr/>
        </p:nvSpPr>
        <p:spPr>
          <a:xfrm>
            <a:off x="3519360" y="762120"/>
            <a:ext cx="4202280" cy="232200"/>
          </a:xfrm>
          <a:prstGeom prst="rect">
            <a:avLst/>
          </a:prstGeom>
          <a:solidFill>
            <a:srgbClr val="a6c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5080" bIns="550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se charts, diagrams, or photos whenever possible to describe the situa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1"/>
          <p:cNvSpPr/>
          <p:nvPr/>
        </p:nvSpPr>
        <p:spPr>
          <a:xfrm>
            <a:off x="2689200" y="3205080"/>
            <a:ext cx="25052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at are the key problem areas on the map? (What are your angry clouds?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1"/>
          <p:cNvSpPr/>
          <p:nvPr/>
        </p:nvSpPr>
        <p:spPr>
          <a:xfrm>
            <a:off x="5237280" y="1008000"/>
            <a:ext cx="24811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eak down the larger problem.  List the contributing problems below, sorting them by category.  Attach an affinity diagram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253"/>
          <p:cNvSpPr/>
          <p:nvPr/>
        </p:nvSpPr>
        <p:spPr>
          <a:xfrm>
            <a:off x="2671920" y="1009800"/>
            <a:ext cx="2504880" cy="340200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254"/>
          <p:cNvSpPr/>
          <p:nvPr/>
        </p:nvSpPr>
        <p:spPr>
          <a:xfrm>
            <a:off x="5218200" y="1009800"/>
            <a:ext cx="2503440" cy="340200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255"/>
          <p:cNvSpPr/>
          <p:nvPr/>
        </p:nvSpPr>
        <p:spPr>
          <a:xfrm>
            <a:off x="133200" y="1009800"/>
            <a:ext cx="2505240" cy="340200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2"/>
          <p:cNvSpPr/>
          <p:nvPr/>
        </p:nvSpPr>
        <p:spPr>
          <a:xfrm>
            <a:off x="4049640" y="4478400"/>
            <a:ext cx="3672000" cy="269640"/>
          </a:xfrm>
          <a:prstGeom prst="rect">
            <a:avLst/>
          </a:prstGeom>
          <a:solidFill>
            <a:srgbClr val="a6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9800" rIns="109800" tIns="55080" bIns="55080" anchor="ctr">
            <a:noAutofit/>
          </a:bodyPr>
          <a:p>
            <a:pPr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seline Data Set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Table 255"/>
          <p:cNvGrpSpPr/>
          <p:nvPr/>
        </p:nvGrpSpPr>
        <p:grpSpPr>
          <a:xfrm>
            <a:off x="4049640" y="4748040"/>
            <a:ext cx="3668760" cy="1081440"/>
            <a:chOff x="4049640" y="4748040"/>
            <a:chExt cx="3668760" cy="1081440"/>
          </a:xfrm>
        </p:grpSpPr>
        <p:sp>
          <p:nvSpPr>
            <p:cNvPr id="291" name=""/>
            <p:cNvSpPr/>
            <p:nvPr/>
          </p:nvSpPr>
          <p:spPr>
            <a:xfrm>
              <a:off x="4049640" y="4748040"/>
              <a:ext cx="917640" cy="216000"/>
            </a:xfrm>
            <a:prstGeom prst="rect">
              <a:avLst/>
            </a:prstGeom>
            <a:solidFill>
              <a:srgbClr val="a6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easu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967280" y="4748040"/>
              <a:ext cx="917640" cy="216000"/>
            </a:xfrm>
            <a:prstGeom prst="rect">
              <a:avLst/>
            </a:prstGeom>
            <a:solidFill>
              <a:srgbClr val="a6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urren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884920" y="4748040"/>
              <a:ext cx="915840" cy="216000"/>
            </a:xfrm>
            <a:prstGeom prst="rect">
              <a:avLst/>
            </a:prstGeom>
            <a:solidFill>
              <a:srgbClr val="a6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Futu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800760" y="4748040"/>
              <a:ext cx="917640" cy="216000"/>
            </a:xfrm>
            <a:prstGeom prst="rect">
              <a:avLst/>
            </a:prstGeom>
            <a:solidFill>
              <a:srgbClr val="a6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mpac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049640" y="4964040"/>
              <a:ext cx="917640" cy="2160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967280" y="4964040"/>
              <a:ext cx="917640" cy="2160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84920" y="4964040"/>
              <a:ext cx="915840" cy="21600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800760" y="4964040"/>
              <a:ext cx="917640" cy="21600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049640" y="5180040"/>
              <a:ext cx="917640" cy="21744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967280" y="5180040"/>
              <a:ext cx="917640" cy="21744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84920" y="5180040"/>
              <a:ext cx="915840" cy="2174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800760" y="5180040"/>
              <a:ext cx="917640" cy="2174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049640" y="5397480"/>
              <a:ext cx="917640" cy="2160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967280" y="5397480"/>
              <a:ext cx="917640" cy="2160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884920" y="5397480"/>
              <a:ext cx="915840" cy="21600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800760" y="5397480"/>
              <a:ext cx="917640" cy="21600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049640" y="5613480"/>
              <a:ext cx="917640" cy="2160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967280" y="5613480"/>
              <a:ext cx="917640" cy="2160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884920" y="5613480"/>
              <a:ext cx="915840" cy="21600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800760" y="5613480"/>
              <a:ext cx="917640" cy="21600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967280" y="4748040"/>
              <a:ext cx="0" cy="108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884920" y="4748040"/>
              <a:ext cx="0" cy="108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800760" y="4748040"/>
              <a:ext cx="0" cy="108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049640" y="4964040"/>
              <a:ext cx="3668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049640" y="5180040"/>
              <a:ext cx="3668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049640" y="5397480"/>
              <a:ext cx="3668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049640" y="5613480"/>
              <a:ext cx="3668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049640" y="4748040"/>
              <a:ext cx="0" cy="108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718400" y="4748040"/>
              <a:ext cx="0" cy="108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049640" y="4748040"/>
              <a:ext cx="3668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049640" y="5829480"/>
              <a:ext cx="3668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AutoShape 17"/>
          <p:cNvSpPr/>
          <p:nvPr/>
        </p:nvSpPr>
        <p:spPr>
          <a:xfrm>
            <a:off x="7424640" y="5613480"/>
            <a:ext cx="379440" cy="328680"/>
          </a:xfrm>
          <a:prstGeom prst="downArrow">
            <a:avLst>
              <a:gd name="adj1" fmla="val 36398"/>
              <a:gd name="adj2" fmla="val 405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436"/>
          <p:cNvSpPr/>
          <p:nvPr/>
        </p:nvSpPr>
        <p:spPr>
          <a:xfrm>
            <a:off x="7424640" y="4195800"/>
            <a:ext cx="379440" cy="328680"/>
          </a:xfrm>
          <a:prstGeom prst="downArrow">
            <a:avLst>
              <a:gd name="adj1" fmla="val 36398"/>
              <a:gd name="adj2" fmla="val 405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260"/>
          <p:cNvSpPr/>
          <p:nvPr/>
        </p:nvSpPr>
        <p:spPr>
          <a:xfrm>
            <a:off x="5487840" y="4437000"/>
            <a:ext cx="23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D key measure &amp; current score in Concern stage. Future &amp; Impact in Confirm st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Table 259"/>
          <p:cNvGrpSpPr/>
          <p:nvPr/>
        </p:nvGrpSpPr>
        <p:grpSpPr>
          <a:xfrm>
            <a:off x="7912080" y="3112920"/>
            <a:ext cx="7477200" cy="1562400"/>
            <a:chOff x="7912080" y="3112920"/>
            <a:chExt cx="7477200" cy="1562400"/>
          </a:xfrm>
        </p:grpSpPr>
        <p:sp>
          <p:nvSpPr>
            <p:cNvPr id="326" name=""/>
            <p:cNvSpPr/>
            <p:nvPr/>
          </p:nvSpPr>
          <p:spPr>
            <a:xfrm>
              <a:off x="7912080" y="3112920"/>
              <a:ext cx="3678120" cy="270000"/>
            </a:xfrm>
            <a:prstGeom prst="rect">
              <a:avLst/>
            </a:prstGeom>
            <a:solidFill>
              <a:srgbClr val="a6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untermeasures                                                           Evaluation Factors&gt;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590200" y="3112920"/>
              <a:ext cx="746280" cy="270000"/>
            </a:xfrm>
            <a:prstGeom prst="rect">
              <a:avLst/>
            </a:prstGeom>
            <a:solidFill>
              <a:srgbClr val="a6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2336480" y="3112920"/>
              <a:ext cx="752400" cy="270000"/>
            </a:xfrm>
            <a:prstGeom prst="rect">
              <a:avLst/>
            </a:prstGeom>
            <a:solidFill>
              <a:srgbClr val="a6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3088880" y="3112920"/>
              <a:ext cx="804960" cy="270000"/>
            </a:xfrm>
            <a:prstGeom prst="rect">
              <a:avLst/>
            </a:prstGeom>
            <a:solidFill>
              <a:srgbClr val="a6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3893840" y="3112920"/>
              <a:ext cx="770040" cy="270000"/>
            </a:xfrm>
            <a:prstGeom prst="rect">
              <a:avLst/>
            </a:prstGeom>
            <a:solidFill>
              <a:srgbClr val="a6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4663880" y="3112920"/>
              <a:ext cx="725400" cy="270000"/>
            </a:xfrm>
            <a:prstGeom prst="rect">
              <a:avLst/>
            </a:prstGeom>
            <a:solidFill>
              <a:srgbClr val="a6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Total sco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912080" y="3382920"/>
              <a:ext cx="3678120" cy="21276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valuation factor weights &gt;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1590200" y="3382920"/>
              <a:ext cx="746280" cy="21276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2336480" y="3382920"/>
              <a:ext cx="752400" cy="21276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3088880" y="3382920"/>
              <a:ext cx="804960" cy="21276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3893840" y="3382920"/>
              <a:ext cx="770040" cy="21276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4663880" y="3382920"/>
              <a:ext cx="725400" cy="21276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912080" y="3595680"/>
              <a:ext cx="3678120" cy="2700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1590200" y="3595680"/>
              <a:ext cx="746280" cy="2700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2336480" y="3595680"/>
              <a:ext cx="752400" cy="2700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3088880" y="3595680"/>
              <a:ext cx="804960" cy="2700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3893840" y="3595680"/>
              <a:ext cx="770040" cy="2700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4663880" y="3595680"/>
              <a:ext cx="725400" cy="2700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912080" y="3865680"/>
              <a:ext cx="3678120" cy="26964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1590200" y="3865680"/>
              <a:ext cx="746280" cy="26964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2336480" y="3865680"/>
              <a:ext cx="752400" cy="26964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3088880" y="3865680"/>
              <a:ext cx="804960" cy="26964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3893840" y="3865680"/>
              <a:ext cx="770040" cy="26964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4663880" y="3865680"/>
              <a:ext cx="725400" cy="26964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912080" y="4135320"/>
              <a:ext cx="3678120" cy="2700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1590200" y="4135320"/>
              <a:ext cx="746280" cy="2700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2336480" y="4135320"/>
              <a:ext cx="752400" cy="2700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3088880" y="4135320"/>
              <a:ext cx="804960" cy="2700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3893840" y="4135320"/>
              <a:ext cx="770040" cy="2700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4663880" y="4135320"/>
              <a:ext cx="725400" cy="2700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912080" y="4405320"/>
              <a:ext cx="3678120" cy="2700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1590200" y="4405320"/>
              <a:ext cx="746280" cy="2700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2336480" y="4405320"/>
              <a:ext cx="752400" cy="2700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3088880" y="4405320"/>
              <a:ext cx="804960" cy="2700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3893840" y="4405320"/>
              <a:ext cx="770040" cy="2700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4663880" y="4405320"/>
              <a:ext cx="725400" cy="2700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1590200" y="3112920"/>
              <a:ext cx="0" cy="156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2336480" y="3112920"/>
              <a:ext cx="0" cy="156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3088880" y="3112920"/>
              <a:ext cx="0" cy="156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3893840" y="3112920"/>
              <a:ext cx="0" cy="156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4663880" y="3112920"/>
              <a:ext cx="0" cy="156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912080" y="3382920"/>
              <a:ext cx="747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912080" y="3595680"/>
              <a:ext cx="747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912080" y="3865680"/>
              <a:ext cx="747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912080" y="4135320"/>
              <a:ext cx="747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912080" y="4405320"/>
              <a:ext cx="747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912080" y="3112920"/>
              <a:ext cx="0" cy="156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5389280" y="3112920"/>
              <a:ext cx="0" cy="156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912080" y="3112920"/>
              <a:ext cx="747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912080" y="4675320"/>
              <a:ext cx="747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Rectangle 456"/>
          <p:cNvSpPr/>
          <p:nvPr/>
        </p:nvSpPr>
        <p:spPr>
          <a:xfrm>
            <a:off x="7913520" y="8620200"/>
            <a:ext cx="2883240" cy="1951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Table 261"/>
          <p:cNvGrpSpPr/>
          <p:nvPr/>
        </p:nvGrpSpPr>
        <p:grpSpPr>
          <a:xfrm>
            <a:off x="128520" y="50760"/>
            <a:ext cx="5197680" cy="641520"/>
            <a:chOff x="128520" y="50760"/>
            <a:chExt cx="5197680" cy="641520"/>
          </a:xfrm>
        </p:grpSpPr>
        <p:sp>
          <p:nvSpPr>
            <p:cNvPr id="378" name=""/>
            <p:cNvSpPr/>
            <p:nvPr/>
          </p:nvSpPr>
          <p:spPr>
            <a:xfrm>
              <a:off x="128520" y="50760"/>
              <a:ext cx="988920" cy="21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Them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117440" y="50760"/>
              <a:ext cx="4208760" cy="21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28520" y="264960"/>
              <a:ext cx="98892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Ultimate go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117440" y="264960"/>
              <a:ext cx="420876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28520" y="477720"/>
              <a:ext cx="988920" cy="21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ate assign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117440" y="477720"/>
              <a:ext cx="4208760" cy="21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117440" y="50760"/>
              <a:ext cx="0" cy="64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28520" y="264960"/>
              <a:ext cx="519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28520" y="477720"/>
              <a:ext cx="519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28520" y="50760"/>
              <a:ext cx="0" cy="64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326200" y="50760"/>
              <a:ext cx="0" cy="64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28520" y="50760"/>
              <a:ext cx="519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28520" y="692280"/>
              <a:ext cx="519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Table 262"/>
          <p:cNvGrpSpPr/>
          <p:nvPr/>
        </p:nvGrpSpPr>
        <p:grpSpPr>
          <a:xfrm>
            <a:off x="10196640" y="50760"/>
            <a:ext cx="5197320" cy="641520"/>
            <a:chOff x="10196640" y="50760"/>
            <a:chExt cx="5197320" cy="641520"/>
          </a:xfrm>
        </p:grpSpPr>
        <p:sp>
          <p:nvSpPr>
            <p:cNvPr id="392" name=""/>
            <p:cNvSpPr/>
            <p:nvPr/>
          </p:nvSpPr>
          <p:spPr>
            <a:xfrm>
              <a:off x="10196640" y="50760"/>
              <a:ext cx="885600" cy="21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Team Nam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1082240" y="50760"/>
              <a:ext cx="2024280" cy="21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3106520" y="50760"/>
              <a:ext cx="1135080" cy="21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epartment/Shif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4241600" y="50760"/>
              <a:ext cx="1152360" cy="21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0196640" y="264960"/>
              <a:ext cx="88560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Team Lea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1082240" y="264960"/>
              <a:ext cx="202428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3106520" y="264960"/>
              <a:ext cx="113508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epartment/Shif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241600" y="264960"/>
              <a:ext cx="115236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0196640" y="477720"/>
              <a:ext cx="885600" cy="21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4 Coa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1082240" y="477720"/>
              <a:ext cx="2024280" cy="21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3106520" y="477720"/>
              <a:ext cx="1135080" cy="21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epartment/Shif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4241600" y="477720"/>
              <a:ext cx="1152360" cy="21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1082240" y="50760"/>
              <a:ext cx="0" cy="64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3106520" y="50760"/>
              <a:ext cx="0" cy="64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4241600" y="50760"/>
              <a:ext cx="0" cy="64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0196640" y="264960"/>
              <a:ext cx="5197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196640" y="477720"/>
              <a:ext cx="5197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0196640" y="50760"/>
              <a:ext cx="0" cy="64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5393960" y="50760"/>
              <a:ext cx="0" cy="64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0196640" y="50760"/>
              <a:ext cx="5197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0196640" y="692280"/>
              <a:ext cx="5197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79400" y="402840"/>
            <a:ext cx="13986000" cy="16765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ctr">
            <a:noAutofit/>
          </a:bodyPr>
          <a:p>
            <a:pPr indent="0" algn="ctr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9400" y="2347560"/>
            <a:ext cx="13986000" cy="66373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marL="549360" indent="-54936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1187280" indent="-45396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2" marL="1828800" indent="-3668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3" marL="2558880" indent="-3632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4" marL="3290760" indent="-368280"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5" marL="3290760" indent="-368280"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6" marL="3290760" indent="-368280"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6"/>
          <p:cNvSpPr/>
          <p:nvPr/>
        </p:nvSpPr>
        <p:spPr>
          <a:xfrm>
            <a:off x="79200" y="79200"/>
            <a:ext cx="7620120" cy="9900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347"/>
          <p:cNvSpPr/>
          <p:nvPr/>
        </p:nvSpPr>
        <p:spPr>
          <a:xfrm>
            <a:off x="19080" y="-15840"/>
            <a:ext cx="380988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5080" bIns="55080" anchor="t">
            <a:spAutoFit/>
          </a:bodyPr>
          <a:p>
            <a:pPr algn="just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4  Work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cern – Cause – Countermeasure – Confir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8"/>
          <p:cNvSpPr/>
          <p:nvPr/>
        </p:nvSpPr>
        <p:spPr>
          <a:xfrm>
            <a:off x="7831080" y="79200"/>
            <a:ext cx="7620120" cy="9900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79400" y="402840"/>
            <a:ext cx="13986000" cy="16765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ctr">
            <a:noAutofit/>
          </a:bodyPr>
          <a:p>
            <a:pPr indent="0" algn="ctr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79400" y="2347560"/>
            <a:ext cx="13986000" cy="66373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marL="549360" indent="-54936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1187280" indent="-45396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2" marL="1828800" indent="-3668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3" marL="2558880" indent="-3632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4" marL="3290760" indent="-368280"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5" marL="3290760" indent="-368280"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6" marL="3290760" indent="-368280"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4:30:53Z</dcterms:created>
  <dc:creator>David Veech</dc:creator>
  <dc:description/>
  <cp:keywords/>
  <dc:language>en-US</dc:language>
  <cp:lastModifiedBy>David Veech</cp:lastModifiedBy>
  <cp:lastPrinted>2007-02-21T04:39:43Z</cp:lastPrinted>
  <dcterms:modified xsi:type="dcterms:W3CDTF">2013-07-18T06:55:54Z</dcterms:modified>
  <cp:revision>114</cp:revision>
  <dc:subject>Problem Solving Tools</dc:subject>
  <dc:title>C4 Worksheet</dc:title>
</cp:coreProperties>
</file>