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4572000" cy="2743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C556A-179C-4B66-825A-69CAEB76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CBBC1-0A08-4DA5-8CF7-73F8D6FD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0944-B59D-40B3-89DF-58A35A2E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A2C54-B4CC-4C29-9952-83F5CBC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4550-8A14-462F-AF1A-BA577E15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2100-109F-49A5-9FFA-5C01CA8E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76D48-9BA1-4137-B07F-67E73C7C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F94F6-21CD-4697-B0CC-AFAD5C87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D9F6-BC45-4881-AE41-50643048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CCD3D-8478-4BF9-8639-02EAF3F5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FFB85-BB28-4F40-AFE0-B606EDDA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9DE32-5C58-430A-9F06-2C5A0F47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330F-E425-46BF-A380-8E66E10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798F7-4225-4CF4-BE4C-AAAFCC6C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B4C10-5DA2-4A03-AA01-6536F47A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EB3D3-DB0B-4317-A421-8526797B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8BC91-3798-441E-A0EE-1E44CA33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E2045-F2AF-4160-A8A9-B246E95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38797-A0E7-4AB1-9885-C0E1C25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A4B85-8052-423C-8639-2EA3F55F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C6E54-E87A-4DE2-B21E-053CEFCB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2AEEC-B93D-4DA5-867C-5E395244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79FBE-02C1-43EF-BA26-F31DF45A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12268-8B00-4A35-8A8C-7FF9130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0671F-6A54-465C-B64C-DC0FA9CB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12910-B199-41C1-85FF-022324AC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E12FD-21ED-4C6B-91FF-5E3AF2CF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048A1-89ED-4EA0-8D82-E9F3B32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D2087-80F0-4B87-B52B-2F84DE5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4227-09AD-4EEB-866D-2BC3B75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7A687-6E3E-4C76-9E1F-F58CAE90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2304C-F5B8-42FB-B0F5-B2CAF0B1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5F44A-A499-4A65-A01E-109BE8D5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1344A-F80B-47FA-A63F-0CD5FC65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2D19D-4AB2-4EBC-A57E-B828ACAB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0D80C-20E9-458F-8A0D-695515B5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FB51D-63DF-40E7-BF5E-D2A57B98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90F9C-0649-492E-8647-6930F97B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D6AE0-19D6-4978-B720-A8E2BE19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96582-3EEA-42FE-956B-482229D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29682-8D5F-486A-A951-55990013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82BEE-4EB9-4F94-925A-FD6A602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A23A6-0B85-49B7-A38A-97436A79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B7DE6-974E-4467-BAB0-C5BADAD3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40CFD-FA40-4B27-91AE-CD8FF22A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35F6A-F6A1-4E31-B25B-23556E34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E6B67-CF68-4C66-9537-F6DA5F99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372B7-803B-4529-A9AB-466EFA8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D65B1-12D1-4B23-A079-D42FA3A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68070-F461-4004-A0B6-638DDD93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5526C-B137-41C0-B736-95E69B2F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6F147-8E7E-467E-8153-628ADB4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445A6-D028-4511-AB9D-75E46D9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94F75-852B-41A3-BF71-7A76DC7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35FC0-1BC6-45F2-8136-2BDB1014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378C1-F425-44B0-814F-FFF3CCE8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CC77B-AAC3-4985-84C1-E773C623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DFDD0-32FB-43AD-AAD6-F6AED9F3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AA94B-EA1A-4B65-B4F2-89156DF2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CD76C-8877-4150-946B-E46F82E1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7E848-25B5-4EFC-BB92-7B45FCA4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747BA-BF6E-4690-9B08-B90AC3CB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BFF33-8593-4B1C-A95F-C1FD9D45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DE82F-8CFE-4618-A904-8959ABD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DB3B-EAC2-46C3-8910-E417EA4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EE965-851B-43E3-AC81-1A7302A9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462E0-395E-4B93-9873-3CD58D5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58B9D-81E2-4B7A-AE41-1AA6451D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0CE22-35FA-4F8F-8BCD-AE4C1FC4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F7FE9-629E-4506-98E4-EE7635F6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623DB-E711-41EE-AF11-1B1CA7E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B93F6-ED9D-4B95-9F0E-F607EE26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CFB92-4DAC-4349-A1C0-DFF4AD7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82E64-29AB-4820-A794-02DE9483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B19D9-BDFE-469C-9B12-A5BE05DC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CAD51-68ED-47A9-A097-D121087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0452B-EB98-4634-8BB2-09772B6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521BD-07C6-487C-903A-FC4EC9B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CD32D-FCA3-4FB4-B833-8428DE44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5773F-6A46-44FB-81D1-15F14FC1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4D12F-5922-4539-AF40-D8B4E732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45E87-FB2C-4741-862B-A9DCE6D9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E20B3-15FC-4504-95CB-CB47D06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185EA-1B27-4366-A89C-93E4CCE0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50949-DD7F-42AF-B042-2A17D6C3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F4789-6CA7-4505-BDE3-BD607535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1ED3F-5EA3-4B32-A86D-BDD8F360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B5481-0374-4B6A-B421-D2E1A03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CCC9E-17A0-4AA5-9844-84AA628B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4CD6D-E635-4461-B47E-70334EA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E5423-25C2-463D-8F9B-69A9EA0B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CAB17-B8A0-46F3-A9DE-042BAE1A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CBE41-85BE-4E01-BB73-B002BEE7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8A1-B4A5-415A-AB08-E6EAAC5C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E55-834C-45BE-AD9D-6D3D6CF2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721-E8E0-40DC-A0FF-E7E9ADC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F02-147C-4416-B3B4-3DE06868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32A-A58D-42E5-B58C-9DB7F013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539-AAF8-473D-94D1-8E9E1E08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658-139F-40F8-930A-9974BBB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A5E-142F-4060-93E5-7505F53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0F1-F05F-44FD-8641-BCBC43AD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5DD-C11F-4AB2-9451-1473DFD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321-7AEB-4720-9A1F-6E0936CD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2AA-9A38-4ECF-ADA4-BE9084FE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601-C350-484A-B3EC-4844313D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E6BB-E86D-49E9-8C20-9AA0F000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31FD-FEF5-4873-9A81-EADB32BD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C7E2-3D0E-4724-8799-12F0701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96A-0D1A-4468-9205-D0F532BD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2A30-0F31-4B27-A022-AB87A2AA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204A-3786-4543-93E5-4120835F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D12D-0A9B-41B1-974C-32DF7DD9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774-FD2E-44F5-829A-FBDF216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E9C4-1D5D-4362-8165-813CE868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22DD-4EAC-415F-8B75-0AC0240D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9B00-13D4-4265-96E9-670BA7D6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7CCE-3B46-45B0-B2BA-BED6365F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9F5D-7ECF-48C6-A886-CBA5C807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B572-32DA-4EBB-A3EA-02F5AB4F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4E3C-2585-432E-A134-12D90BEE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AB2D-E14D-4CA3-972C-11A8A131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F2AF-E87D-4F0B-9F46-29E2678D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D641-7D92-46EF-AA34-AFC7CA3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CED2-00B1-425F-91F8-A6B6458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5198-D1A1-40A0-A014-6874856E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9423-5FB8-41F1-A3C5-62FF177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1EF1-509E-4CF3-815D-5AF9C362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1438-D1C3-41CA-A77C-2254BFC1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D1E2-3D18-43E0-B6DC-BDBD854E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7A3D-5053-4993-BC0C-FE181F9A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2DDE8-7EFD-43DC-A599-F8DBAFF0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E496-902E-46C9-BF97-BF8334E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E5F5C-3E7C-4EDF-BF20-62DC643B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A651-77BC-4A30-969E-2A2D3927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1730-7C36-4FC0-9943-D303DA5A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5BD5-B555-4CD7-B5C4-6B5E519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B1A5-DE12-49E1-BFB2-6A89F4F8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21FF-4AA1-466F-8C62-D7B35F37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8868-0A88-4B11-8518-0DA1A92D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DDC7-6C86-4C23-8DA4-644F50BE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55AF-5A67-40D1-8DD1-ADC53759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2D3C-65B4-4505-9C6B-9A6B4162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6F2D8-3831-4443-A64F-2728F1B6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6D866-989D-4AEA-A121-86B05936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EB10-0141-4610-A791-C75902DF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228600" y="109440"/>
            <a:ext cx="41144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A5DBA-609D-41BD-96BD-D024AFB6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F79C-7C92-458E-9DA4-41913CE0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E5DFE-92E8-49E1-8D07-8690F68B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7ED6B-F1F1-4686-8C10-DD085DB7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228600" y="1472760"/>
            <a:ext cx="411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352C-D666-4255-83F6-B1763D79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337120" y="64188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2860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2337120" y="1472760"/>
            <a:ext cx="200772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D8546-DD0E-4E8C-BB79-9E5F00D1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61964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10680" y="64188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22860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161964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3010680" y="1472760"/>
            <a:ext cx="13244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E9A74-1323-4D76-AD24-22A4A92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B865-EDEE-40F8-80E6-A4291D26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B926-FBA3-4CA0-90C1-7F20FC4A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E5A7-936B-4B2A-9079-6B937DF1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503280" y="268200"/>
            <a:ext cx="2216160" cy="210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23760" y="0"/>
            <a:ext cx="4096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4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2786040" y="0"/>
            <a:ext cx="172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1-Concern:  Identify the problem (Who, what, when, where, how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2786040" y="1104840"/>
            <a:ext cx="1736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2-Cause:  To help identify the root cause, answer the question “Why did this happen?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n ask why that answer happened.  Do this 5 times.  Write your responses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507960" y="0"/>
            <a:ext cx="220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1-Concern:  Capture the current state with a chart, picture or diagram belo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 rot="16200000">
            <a:off x="-84600" y="2513520"/>
            <a:ext cx="31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4"/>
          <p:cNvSpPr/>
          <p:nvPr/>
        </p:nvSpPr>
        <p:spPr>
          <a:xfrm rot="16200000">
            <a:off x="-65880" y="2388240"/>
            <a:ext cx="56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part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5"/>
          <p:cNvSpPr/>
          <p:nvPr/>
        </p:nvSpPr>
        <p:spPr>
          <a:xfrm rot="16200000">
            <a:off x="-53640" y="668160"/>
            <a:ext cx="252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6"/>
          <p:cNvSpPr/>
          <p:nvPr/>
        </p:nvSpPr>
        <p:spPr>
          <a:xfrm rot="16200000">
            <a:off x="90360" y="668160"/>
            <a:ext cx="252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 rot="16200000">
            <a:off x="-237240" y="2070720"/>
            <a:ext cx="120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m Leader/Superviso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"/>
          <p:cNvSpPr/>
          <p:nvPr/>
        </p:nvSpPr>
        <p:spPr>
          <a:xfrm>
            <a:off x="0" y="892080"/>
            <a:ext cx="136440" cy="151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152280" y="892080"/>
            <a:ext cx="136800" cy="12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9"/>
          <p:cNvSpPr/>
          <p:nvPr/>
        </p:nvSpPr>
        <p:spPr>
          <a:xfrm>
            <a:off x="304920" y="147600"/>
            <a:ext cx="136440" cy="14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0" y="147600"/>
            <a:ext cx="13644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21"/>
          <p:cNvSpPr/>
          <p:nvPr/>
        </p:nvSpPr>
        <p:spPr>
          <a:xfrm>
            <a:off x="152280" y="147600"/>
            <a:ext cx="13680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2786040" y="268200"/>
            <a:ext cx="17319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2"/>
          <p:cNvSpPr/>
          <p:nvPr/>
        </p:nvSpPr>
        <p:spPr>
          <a:xfrm>
            <a:off x="2786040" y="1747800"/>
            <a:ext cx="173196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Box 6"/>
          <p:cNvSpPr/>
          <p:nvPr/>
        </p:nvSpPr>
        <p:spPr>
          <a:xfrm>
            <a:off x="503280" y="2394000"/>
            <a:ext cx="221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Shift Coordination:  TL/Super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 as is: _______  See note: 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dt" idx="19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ftr" idx="20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1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2614-ABA3-45CF-AB5B-B12D563847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dt" idx="22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ftr" idx="23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24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E9E2-BF66-4132-ABF2-4F77150D1F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dt" idx="25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6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27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CCC2-46D9-4988-BC69-095CB5033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dt" idx="28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ftr" idx="29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30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5C8-BD49-4A47-9488-45ECD0CB0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dt" idx="31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ftr" idx="32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Num" idx="33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EE7D-7082-438E-BD71-D46D57C93A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dt" idx="34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ftr" idx="35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Num" idx="36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AABD-1929-41B1-9ED0-EB073AC1C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dt" idx="37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ftr" idx="38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sldNum" idx="39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8A82-C59E-42EF-9F4C-FC76A739B0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27000" y="31680"/>
            <a:ext cx="2151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3 - Evaluate your countermeas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le the appropriate rating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794040" y="2389320"/>
            <a:ext cx="739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erence #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187720" y="252360"/>
            <a:ext cx="2341440" cy="206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319480" y="0"/>
            <a:ext cx="220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3-Countermeasure:  Capture the future state with a chart, picture or diagram belo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5840" y="2357280"/>
            <a:ext cx="66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7000" y="1968480"/>
            <a:ext cx="198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4-Confirm:  Has the countermeasure been approved, implemented and standardized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714240" y="2198520"/>
            <a:ext cx="1541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  Yes      Date        By wh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1711440" y="2606760"/>
            <a:ext cx="1898640" cy="1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1711440" y="2473200"/>
            <a:ext cx="189864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1711440" y="2340000"/>
            <a:ext cx="19000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1155600" y="2340000"/>
            <a:ext cx="5176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1155600" y="2473200"/>
            <a:ext cx="5176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1155600" y="2606760"/>
            <a:ext cx="517680" cy="1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971640" y="2340000"/>
            <a:ext cx="1252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971640" y="2473200"/>
            <a:ext cx="1252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971640" y="2606760"/>
            <a:ext cx="125280" cy="1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720720" y="2340000"/>
            <a:ext cx="12384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720720" y="2473200"/>
            <a:ext cx="12384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720720" y="2606760"/>
            <a:ext cx="123840" cy="1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6360" y="1081080"/>
            <a:ext cx="212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ation Plan (what, who, and when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Table 3"/>
          <p:cNvGrpSpPr/>
          <p:nvPr/>
        </p:nvGrpSpPr>
        <p:grpSpPr>
          <a:xfrm>
            <a:off x="42840" y="262080"/>
            <a:ext cx="2119320" cy="763560"/>
            <a:chOff x="42840" y="262080"/>
            <a:chExt cx="2119320" cy="763560"/>
          </a:xfrm>
        </p:grpSpPr>
        <p:sp>
          <p:nvSpPr>
            <p:cNvPr id="75" name=""/>
            <p:cNvSpPr/>
            <p:nvPr/>
          </p:nvSpPr>
          <p:spPr>
            <a:xfrm>
              <a:off x="42840" y="262080"/>
              <a:ext cx="52056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3400" y="262080"/>
              <a:ext cx="45432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17720" y="262080"/>
              <a:ext cx="52200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u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39720" y="262080"/>
              <a:ext cx="420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60560" y="262080"/>
              <a:ext cx="20160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840" y="384120"/>
              <a:ext cx="52056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3400" y="384120"/>
              <a:ext cx="45432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17720" y="384120"/>
              <a:ext cx="52200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39720" y="384120"/>
              <a:ext cx="42084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$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0560" y="384120"/>
              <a:ext cx="20160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840" y="544680"/>
              <a:ext cx="52056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400" y="544680"/>
              <a:ext cx="45432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7720" y="544680"/>
              <a:ext cx="52200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39720" y="544680"/>
              <a:ext cx="42084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tt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60560" y="544680"/>
              <a:ext cx="20160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840" y="704880"/>
              <a:ext cx="52056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e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3400" y="704880"/>
              <a:ext cx="45432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17720" y="704880"/>
              <a:ext cx="52200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y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39720" y="704880"/>
              <a:ext cx="42084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60560" y="704880"/>
              <a:ext cx="20160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840" y="865080"/>
              <a:ext cx="52056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vin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3400" y="865080"/>
              <a:ext cx="45432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$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7720" y="865080"/>
              <a:ext cx="52200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39720" y="865080"/>
              <a:ext cx="42084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60560" y="865080"/>
              <a:ext cx="20160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40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1772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3972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6056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840" y="38412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840" y="5446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840" y="7048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40" y="8650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84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6216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840" y="2620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840" y="102564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Table 31"/>
          <p:cNvGrpSpPr/>
          <p:nvPr/>
        </p:nvGrpSpPr>
        <p:grpSpPr>
          <a:xfrm>
            <a:off x="38160" y="1243080"/>
            <a:ext cx="2119320" cy="630000"/>
            <a:chOff x="38160" y="1243080"/>
            <a:chExt cx="2119320" cy="630000"/>
          </a:xfrm>
        </p:grpSpPr>
        <p:sp>
          <p:nvSpPr>
            <p:cNvPr id="113" name=""/>
            <p:cNvSpPr/>
            <p:nvPr/>
          </p:nvSpPr>
          <p:spPr>
            <a:xfrm>
              <a:off x="38160" y="1243080"/>
              <a:ext cx="1158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on ste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7000" y="1243080"/>
              <a:ext cx="5396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6640" y="1243080"/>
              <a:ext cx="420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0" y="1365120"/>
              <a:ext cx="1158840" cy="122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97000" y="1365120"/>
              <a:ext cx="539640" cy="122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36640" y="1365120"/>
              <a:ext cx="420840" cy="122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160" y="1487520"/>
              <a:ext cx="1158840" cy="133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97000" y="1487520"/>
              <a:ext cx="539640" cy="133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6640" y="1487520"/>
              <a:ext cx="420840" cy="133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160" y="1620720"/>
              <a:ext cx="115884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7000" y="1620720"/>
              <a:ext cx="53964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6640" y="1620720"/>
              <a:ext cx="42084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160" y="1751040"/>
              <a:ext cx="1158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97000" y="1751040"/>
              <a:ext cx="5396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36640" y="1751040"/>
              <a:ext cx="420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7000" y="1243080"/>
              <a:ext cx="0" cy="63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36640" y="1243080"/>
              <a:ext cx="0" cy="63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160" y="136512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60" y="148752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60" y="162072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160" y="175104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60" y="1243080"/>
              <a:ext cx="0" cy="63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57480" y="1243080"/>
              <a:ext cx="0" cy="63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160" y="12430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160" y="18730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503280" y="268200"/>
            <a:ext cx="2216160" cy="210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3760" y="0"/>
            <a:ext cx="4096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4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786040" y="0"/>
            <a:ext cx="172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1-Concern:  Identify the problem (Who, what, when, where, how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2786040" y="1104840"/>
            <a:ext cx="1736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2-Cause:  To help identify the root cause, answer the question “Why did this happen?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n ask why that answer happened.  Do this 5 times.  Write your responses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07960" y="0"/>
            <a:ext cx="220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1-Concern:  Capture the current state with a chart, picture or diagram belo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 rot="16200000">
            <a:off x="-84600" y="2513520"/>
            <a:ext cx="31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"/>
          <p:cNvSpPr/>
          <p:nvPr/>
        </p:nvSpPr>
        <p:spPr>
          <a:xfrm rot="16200000">
            <a:off x="-65880" y="2388240"/>
            <a:ext cx="56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part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5"/>
          <p:cNvSpPr/>
          <p:nvPr/>
        </p:nvSpPr>
        <p:spPr>
          <a:xfrm rot="16200000">
            <a:off x="-53640" y="668160"/>
            <a:ext cx="252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6"/>
          <p:cNvSpPr/>
          <p:nvPr/>
        </p:nvSpPr>
        <p:spPr>
          <a:xfrm rot="16200000">
            <a:off x="90360" y="668160"/>
            <a:ext cx="252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7"/>
          <p:cNvSpPr/>
          <p:nvPr/>
        </p:nvSpPr>
        <p:spPr>
          <a:xfrm rot="16200000">
            <a:off x="-237240" y="2070720"/>
            <a:ext cx="120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m Leader/Superviso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892080"/>
            <a:ext cx="136440" cy="151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52280" y="892080"/>
            <a:ext cx="136800" cy="12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304920" y="147600"/>
            <a:ext cx="136440" cy="14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0" y="147600"/>
            <a:ext cx="13644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152280" y="147600"/>
            <a:ext cx="13680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786040" y="268200"/>
            <a:ext cx="17319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2786040" y="1747800"/>
            <a:ext cx="173196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03280" y="2394000"/>
            <a:ext cx="221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Shift Coordination:  TL/Super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 as is: _______  See note: 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dt" idx="1"/>
          </p:nvPr>
        </p:nvSpPr>
        <p:spPr>
          <a:xfrm>
            <a:off x="228240" y="249840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"/>
          </p:nvPr>
        </p:nvSpPr>
        <p:spPr>
          <a:xfrm>
            <a:off x="1562040" y="2498400"/>
            <a:ext cx="14479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"/>
          </p:nvPr>
        </p:nvSpPr>
        <p:spPr>
          <a:xfrm>
            <a:off x="3276360" y="249840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900B-8A10-4762-9900-31D9C229DA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27000" y="31680"/>
            <a:ext cx="2151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3 - Evaluate your countermeas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le the appropriate rating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3794040" y="2389320"/>
            <a:ext cx="739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erence #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187720" y="252360"/>
            <a:ext cx="2341440" cy="206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319480" y="0"/>
            <a:ext cx="220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3-Countermeasure:  Capture the future state with a chart, picture or diagram belo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5840" y="2357280"/>
            <a:ext cx="66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27000" y="1968480"/>
            <a:ext cx="198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4-Confirm:  Has the countermeasure been approved, implemented and standardized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714240" y="2198520"/>
            <a:ext cx="1541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  Yes      Date        By wh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1711440" y="2606760"/>
            <a:ext cx="1898640" cy="1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1711440" y="2473200"/>
            <a:ext cx="189864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1711440" y="2340000"/>
            <a:ext cx="19000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1155600" y="2340000"/>
            <a:ext cx="5176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155600" y="2473200"/>
            <a:ext cx="5176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1155600" y="2606760"/>
            <a:ext cx="517680" cy="1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971640" y="2340000"/>
            <a:ext cx="1252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971640" y="2473200"/>
            <a:ext cx="12528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971640" y="2606760"/>
            <a:ext cx="125280" cy="1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720720" y="2340000"/>
            <a:ext cx="12384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720720" y="2473200"/>
            <a:ext cx="123840" cy="1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720720" y="2606760"/>
            <a:ext cx="123840" cy="1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6360" y="1081080"/>
            <a:ext cx="212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ation Plan (what, who, and when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able 3"/>
          <p:cNvGrpSpPr/>
          <p:nvPr/>
        </p:nvGrpSpPr>
        <p:grpSpPr>
          <a:xfrm>
            <a:off x="42840" y="262080"/>
            <a:ext cx="2119320" cy="763560"/>
            <a:chOff x="42840" y="262080"/>
            <a:chExt cx="2119320" cy="763560"/>
          </a:xfrm>
        </p:grpSpPr>
        <p:sp>
          <p:nvSpPr>
            <p:cNvPr id="290" name=""/>
            <p:cNvSpPr/>
            <p:nvPr/>
          </p:nvSpPr>
          <p:spPr>
            <a:xfrm>
              <a:off x="42840" y="262080"/>
              <a:ext cx="52056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3400" y="262080"/>
              <a:ext cx="45432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17720" y="262080"/>
              <a:ext cx="52200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u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9720" y="262080"/>
              <a:ext cx="420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60560" y="262080"/>
              <a:ext cx="20160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40" y="384120"/>
              <a:ext cx="52056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3400" y="384120"/>
              <a:ext cx="45432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17720" y="384120"/>
              <a:ext cx="52200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9720" y="384120"/>
              <a:ext cx="42084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$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60560" y="384120"/>
              <a:ext cx="20160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840" y="544680"/>
              <a:ext cx="52056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3400" y="544680"/>
              <a:ext cx="45432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17720" y="544680"/>
              <a:ext cx="52200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39720" y="544680"/>
              <a:ext cx="42084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tt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60560" y="544680"/>
              <a:ext cx="20160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840" y="704880"/>
              <a:ext cx="52056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e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3400" y="704880"/>
              <a:ext cx="45432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17720" y="704880"/>
              <a:ext cx="52200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y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9720" y="704880"/>
              <a:ext cx="42084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60560" y="704880"/>
              <a:ext cx="201600" cy="16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840" y="865080"/>
              <a:ext cx="52056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vin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3400" y="865080"/>
              <a:ext cx="45432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$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17720" y="865080"/>
              <a:ext cx="52200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39720" y="865080"/>
              <a:ext cx="42084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60560" y="865080"/>
              <a:ext cx="201600" cy="16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340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1772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3972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6056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40" y="38412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840" y="5446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840" y="7048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840" y="8650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84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2160" y="262080"/>
              <a:ext cx="0" cy="76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40" y="2620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40" y="102564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Table 31"/>
          <p:cNvGrpSpPr/>
          <p:nvPr/>
        </p:nvGrpSpPr>
        <p:grpSpPr>
          <a:xfrm>
            <a:off x="38160" y="1243080"/>
            <a:ext cx="2119320" cy="630000"/>
            <a:chOff x="38160" y="1243080"/>
            <a:chExt cx="2119320" cy="630000"/>
          </a:xfrm>
        </p:grpSpPr>
        <p:sp>
          <p:nvSpPr>
            <p:cNvPr id="328" name=""/>
            <p:cNvSpPr/>
            <p:nvPr/>
          </p:nvSpPr>
          <p:spPr>
            <a:xfrm>
              <a:off x="38160" y="1243080"/>
              <a:ext cx="1158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tion ste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97000" y="1243080"/>
              <a:ext cx="5396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36640" y="1243080"/>
              <a:ext cx="420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160" y="1365120"/>
              <a:ext cx="1158840" cy="122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97000" y="1365120"/>
              <a:ext cx="539640" cy="122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36640" y="1365120"/>
              <a:ext cx="420840" cy="122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160" y="1487520"/>
              <a:ext cx="1158840" cy="133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97000" y="1487520"/>
              <a:ext cx="539640" cy="133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36640" y="1487520"/>
              <a:ext cx="420840" cy="133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160" y="1620720"/>
              <a:ext cx="115884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97000" y="1620720"/>
              <a:ext cx="53964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36640" y="1620720"/>
              <a:ext cx="42084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160" y="1751040"/>
              <a:ext cx="1158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97000" y="1751040"/>
              <a:ext cx="5396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36640" y="1751040"/>
              <a:ext cx="420840" cy="12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97000" y="1243080"/>
              <a:ext cx="0" cy="63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36640" y="1243080"/>
              <a:ext cx="0" cy="63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160" y="136512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160" y="148752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160" y="162072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160" y="175104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160" y="1243080"/>
              <a:ext cx="0" cy="63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57480" y="1243080"/>
              <a:ext cx="0" cy="63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160" y="12430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160" y="1873080"/>
              <a:ext cx="211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dt" idx="4"/>
          </p:nvPr>
        </p:nvSpPr>
        <p:spPr>
          <a:xfrm>
            <a:off x="228240" y="249840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5"/>
          </p:nvPr>
        </p:nvSpPr>
        <p:spPr>
          <a:xfrm>
            <a:off x="1562040" y="2498400"/>
            <a:ext cx="14479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6"/>
          </p:nvPr>
        </p:nvSpPr>
        <p:spPr>
          <a:xfrm>
            <a:off x="3276360" y="2498400"/>
            <a:ext cx="10666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7329-285A-45A9-9FB6-DB661F9470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title"/>
          </p:nvPr>
        </p:nvSpPr>
        <p:spPr>
          <a:xfrm>
            <a:off x="228600" y="109440"/>
            <a:ext cx="411444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body"/>
          </p:nvPr>
        </p:nvSpPr>
        <p:spPr>
          <a:xfrm>
            <a:off x="228600" y="641880"/>
            <a:ext cx="41144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7320" indent="-1573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130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22360" indent="-104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731880" indent="-10476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939960" indent="-10332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5" marL="939960" indent="-10332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6" marL="939960" indent="-10332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7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8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9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46C0-D8BE-4A5C-B35A-4319C15E4E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dt" idx="10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1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2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C5F2-614A-4F58-B47F-09A2FAE1AD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dt" idx="13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14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15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4DAF-989B-4EE1-AED9-73159DD5B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9"/>
          <p:cNvSpPr/>
          <p:nvPr/>
        </p:nvSpPr>
        <p:spPr>
          <a:xfrm>
            <a:off x="457200" y="1371600"/>
            <a:ext cx="41148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3:  Countermeasure:  Wha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your idea for solving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457200" y="1932120"/>
            <a:ext cx="39816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4:  Confirm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the countermeasure been approved, implemented and standardized within the organiza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: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Approved by 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dardized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 Yes  Date _________     Verified by 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dt" idx="16"/>
          </p:nvPr>
        </p:nvSpPr>
        <p:spPr>
          <a:xfrm>
            <a:off x="22824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ftr" idx="17"/>
          </p:nvPr>
        </p:nvSpPr>
        <p:spPr>
          <a:xfrm>
            <a:off x="1562040" y="2543040"/>
            <a:ext cx="1447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18"/>
          </p:nvPr>
        </p:nvSpPr>
        <p:spPr>
          <a:xfrm>
            <a:off x="3276360" y="2543040"/>
            <a:ext cx="106668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CFA7-B3A9-423F-8214-4BB39A4E2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5:10:42Z</dcterms:created>
  <dc:creator>David S Veech</dc:creator>
  <dc:description/>
  <dc:language>en-US</dc:language>
  <cp:lastModifiedBy>David Veech</cp:lastModifiedBy>
  <cp:lastPrinted>2011-06-30T03:56:20Z</cp:lastPrinted>
  <dcterms:modified xsi:type="dcterms:W3CDTF">2011-07-12T21:16:40Z</dcterms:modified>
  <cp:revision>39</cp:revision>
  <dc:subject/>
  <dc:title>Slide 1</dc:title>
</cp:coreProperties>
</file>